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273-73EC-4CC3-96D7-E430FBB7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7D5-131D-49B7-9C3D-73211FC6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64F-CDD4-4B16-AF43-CEF2DD51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7B8-9A48-4857-8261-238BCF33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82D-518C-4B2D-8A8B-63C45597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225-9D7D-442A-B42F-5B6064AB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9B7-6407-4CBB-8C42-B0264570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B1B-AAA1-474D-AC87-A5954BDA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75F-2372-4398-B6CE-93E80A96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644-B5C9-44B9-B3FD-9E6CF5D3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238-0735-4977-9B4D-7125D648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66E-1713-4A4D-A318-BEC207F9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DF67-9D38-43A2-BB9E-60258371439A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1640" y="1584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RIGONOMETRINĖS FUNKC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7000" y="3878280"/>
            <a:ext cx="74757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RBĄ ATLIKO: ŽIVILĖ BALIONYTĖ IR MINDAUGAS ZAJANKAUS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sin x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Jei 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rcsin a = b,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tai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sin b = 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D(arcsin x) = [-1;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E(arcsin x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Arcsin x yra nelyginė f-ja, t.y                   arcsin(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x)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arcsi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Sin(arcsin x)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x, -1≤x≤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vz.:sin(arcsin0,5)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402000" y="2573280"/>
                <a:ext cx="12589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597720" y="1449360"/>
                <a:ext cx="1425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7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unkcija f(x) = co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20797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Grafi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3268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F (x) =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arcco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00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Lygt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984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Nelygyb</a:t>
            </a: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500"/>
                            </p:stCondLst>
                            <p:childTnLst>
                              <p:par>
                                <p:cTn id="4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cos x grafi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1089000"/>
          <a:ext cx="7316640" cy="5175360"/>
        </p:xfrm>
        <a:graphic>
          <a:graphicData uri="http://schemas.openxmlformats.org/drawingml/2006/table">
            <a:tbl>
              <a:tblPr/>
              <a:tblGrid>
                <a:gridCol w="492120"/>
                <a:gridCol w="495360"/>
                <a:gridCol w="493560"/>
                <a:gridCol w="493920"/>
                <a:gridCol w="493560"/>
                <a:gridCol w="493920"/>
                <a:gridCol w="475920"/>
                <a:gridCol w="513000"/>
                <a:gridCol w="493560"/>
                <a:gridCol w="493920"/>
                <a:gridCol w="493560"/>
                <a:gridCol w="493560"/>
                <a:gridCol w="493920"/>
                <a:gridCol w="495360"/>
                <a:gridCol w="401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3" name=""/>
          <p:cNvGrpSpPr/>
          <p:nvPr/>
        </p:nvGrpSpPr>
        <p:grpSpPr>
          <a:xfrm>
            <a:off x="-289080" y="1089000"/>
            <a:ext cx="7696440" cy="5086080"/>
            <a:chOff x="-289080" y="1089000"/>
            <a:chExt cx="7696440" cy="5086080"/>
          </a:xfrm>
        </p:grpSpPr>
        <p:sp>
          <p:nvSpPr>
            <p:cNvPr id="204" name=""/>
            <p:cNvSpPr/>
            <p:nvPr/>
          </p:nvSpPr>
          <p:spPr>
            <a:xfrm>
              <a:off x="71280" y="3654360"/>
              <a:ext cx="720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951280" y="1089000"/>
              <a:ext cx="0" cy="508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-289080" y="1089000"/>
              <a:ext cx="7696440" cy="3767040"/>
              <a:chOff x="-289080" y="1089000"/>
              <a:chExt cx="7696440" cy="3767040"/>
            </a:xfrm>
          </p:grpSpPr>
          <mc:AlternateContent>
            <mc:Choice xmlns:a14="http://schemas.microsoft.com/office/drawing/2010/main" Requires="a14">
              <p:sp>
                <p:nvSpPr>
                  <p:cNvPr id="207" name=""/>
                  <p:cNvSpPr txBox="1"/>
                  <p:nvPr/>
                </p:nvSpPr>
                <p:spPr>
                  <a:xfrm>
                    <a:off x="2995560" y="1089000"/>
                    <a:ext cx="404640" cy="40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8" name=""/>
                  <p:cNvSpPr txBox="1"/>
                  <p:nvPr/>
                </p:nvSpPr>
                <p:spPr>
                  <a:xfrm>
                    <a:off x="6956280" y="3249360"/>
                    <a:ext cx="333360" cy="33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9" name=""/>
                  <p:cNvSpPr txBox="1"/>
                  <p:nvPr/>
                </p:nvSpPr>
                <p:spPr>
                  <a:xfrm>
                    <a:off x="1060560" y="3609720"/>
                    <a:ext cx="572760" cy="811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0" name=""/>
                  <p:cNvSpPr txBox="1"/>
                  <p:nvPr/>
                </p:nvSpPr>
                <p:spPr>
                  <a:xfrm>
                    <a:off x="4302000" y="3654360"/>
                    <a:ext cx="295200" cy="76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1" name=""/>
                  <p:cNvSpPr txBox="1"/>
                  <p:nvPr/>
                </p:nvSpPr>
                <p:spPr>
                  <a:xfrm>
                    <a:off x="5742000" y="3744720"/>
                    <a:ext cx="245880" cy="27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2" name=""/>
                  <p:cNvSpPr txBox="1"/>
                  <p:nvPr/>
                </p:nvSpPr>
                <p:spPr>
                  <a:xfrm>
                    <a:off x="3041640" y="3698640"/>
                    <a:ext cx="2887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-289080" y="3698640"/>
                    <a:ext cx="532080" cy="292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4" name=""/>
                  <p:cNvSpPr txBox="1"/>
                  <p:nvPr/>
                </p:nvSpPr>
                <p:spPr>
                  <a:xfrm>
                    <a:off x="2995560" y="2393640"/>
                    <a:ext cx="274680" cy="39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5" name=""/>
                  <p:cNvSpPr txBox="1"/>
                  <p:nvPr/>
                </p:nvSpPr>
                <p:spPr>
                  <a:xfrm>
                    <a:off x="2816280" y="4464000"/>
                    <a:ext cx="51264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6" name=""/>
                  <p:cNvSpPr txBox="1"/>
                  <p:nvPr/>
                </p:nvSpPr>
                <p:spPr>
                  <a:xfrm>
                    <a:off x="6956280" y="3698640"/>
                    <a:ext cx="451080" cy="67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17" name=""/>
          <p:cNvSpPr/>
          <p:nvPr/>
        </p:nvSpPr>
        <p:spPr>
          <a:xfrm>
            <a:off x="1557360" y="162864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2664000"/>
            <a:ext cx="7291440" cy="2438280"/>
            <a:chOff x="0" y="2664000"/>
            <a:chExt cx="7291440" cy="2438280"/>
          </a:xfrm>
        </p:grpSpPr>
        <p:sp>
          <p:nvSpPr>
            <p:cNvPr id="219" name=""/>
            <p:cNvSpPr/>
            <p:nvPr/>
          </p:nvSpPr>
          <p:spPr>
            <a:xfrm>
              <a:off x="0" y="2664000"/>
              <a:ext cx="7291440" cy="2077920"/>
            </a:xfrm>
            <a:custGeom>
              <a:avLst/>
              <a:gdLst/>
              <a:ahLst/>
              <a:rect l="l" t="t" r="r" b="b"/>
              <a:pathLst>
                <a:path w="4593" h="1309">
                  <a:moveTo>
                    <a:pt x="0" y="1309"/>
                  </a:moveTo>
                  <a:cubicBezTo>
                    <a:pt x="300" y="1091"/>
                    <a:pt x="601" y="874"/>
                    <a:pt x="908" y="657"/>
                  </a:cubicBezTo>
                  <a:cubicBezTo>
                    <a:pt x="1215" y="440"/>
                    <a:pt x="1536" y="0"/>
                    <a:pt x="1843" y="5"/>
                  </a:cubicBezTo>
                  <a:cubicBezTo>
                    <a:pt x="2150" y="10"/>
                    <a:pt x="2448" y="468"/>
                    <a:pt x="2750" y="685"/>
                  </a:cubicBezTo>
                  <a:cubicBezTo>
                    <a:pt x="3052" y="902"/>
                    <a:pt x="3350" y="1309"/>
                    <a:pt x="3657" y="1309"/>
                  </a:cubicBezTo>
                  <a:cubicBezTo>
                    <a:pt x="3964" y="1309"/>
                    <a:pt x="4278" y="997"/>
                    <a:pt x="4593" y="68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5581800" y="4786560"/>
                  <a:ext cx="103500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1" name=""/>
          <p:cNvGrpSpPr/>
          <p:nvPr/>
        </p:nvGrpSpPr>
        <p:grpSpPr>
          <a:xfrm>
            <a:off x="0" y="2664000"/>
            <a:ext cx="7291440" cy="2025360"/>
            <a:chOff x="0" y="2664000"/>
            <a:chExt cx="7291440" cy="2025360"/>
          </a:xfrm>
        </p:grpSpPr>
        <p:sp>
          <p:nvSpPr>
            <p:cNvPr id="222" name=""/>
            <p:cNvSpPr/>
            <p:nvPr/>
          </p:nvSpPr>
          <p:spPr>
            <a:xfrm>
              <a:off x="0" y="2664000"/>
              <a:ext cx="7291440" cy="2025360"/>
            </a:xfrm>
            <a:custGeom>
              <a:avLst/>
              <a:gdLst/>
              <a:ahLst/>
              <a:rect l="l" t="t" r="r" b="b"/>
              <a:pathLst>
                <a:path w="4593" h="1276">
                  <a:moveTo>
                    <a:pt x="0" y="652"/>
                  </a:moveTo>
                  <a:cubicBezTo>
                    <a:pt x="300" y="964"/>
                    <a:pt x="601" y="1276"/>
                    <a:pt x="908" y="1276"/>
                  </a:cubicBezTo>
                  <a:cubicBezTo>
                    <a:pt x="1215" y="1276"/>
                    <a:pt x="1536" y="865"/>
                    <a:pt x="1843" y="652"/>
                  </a:cubicBezTo>
                  <a:cubicBezTo>
                    <a:pt x="2150" y="439"/>
                    <a:pt x="2443" y="0"/>
                    <a:pt x="2750" y="0"/>
                  </a:cubicBezTo>
                  <a:cubicBezTo>
                    <a:pt x="3057" y="0"/>
                    <a:pt x="3379" y="439"/>
                    <a:pt x="3686" y="652"/>
                  </a:cubicBezTo>
                  <a:cubicBezTo>
                    <a:pt x="3993" y="865"/>
                    <a:pt x="4293" y="1070"/>
                    <a:pt x="4593" y="12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086440" y="2843280"/>
                  <a:ext cx="900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797360" y="6192720"/>
                <a:ext cx="1621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7993080" y="6362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27720" y="5815080"/>
            <a:ext cx="2070000" cy="495360"/>
          </a:xfrm>
          <a:custGeom>
            <a:avLst/>
            <a:gdLst>
              <a:gd name="textAreaLeft" fmla="*/ 32040 w 2070000"/>
              <a:gd name="textAreaRight" fmla="*/ 2037960 w 207000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12" h="21600">
                <a:moveTo>
                  <a:pt x="0" y="0"/>
                </a:moveTo>
                <a:lnTo>
                  <a:pt x="90212" y="0"/>
                </a:lnTo>
                <a:lnTo>
                  <a:pt x="90212" y="21600"/>
                </a:lnTo>
                <a:lnTo>
                  <a:pt x="0" y="21600"/>
                </a:lnTo>
                <a:close/>
              </a:path>
              <a:path fill="lightenLess" w="90212" h="21600">
                <a:moveTo>
                  <a:pt x="0" y="0"/>
                </a:moveTo>
                <a:lnTo>
                  <a:pt x="90212" y="0"/>
                </a:lnTo>
                <a:lnTo>
                  <a:pt x="88812" y="1400"/>
                </a:lnTo>
                <a:lnTo>
                  <a:pt x="1400" y="1400"/>
                </a:lnTo>
                <a:close/>
              </a:path>
              <a:path fill="darken" w="90212" h="21600">
                <a:moveTo>
                  <a:pt x="90212" y="0"/>
                </a:moveTo>
                <a:lnTo>
                  <a:pt x="90212" y="21600"/>
                </a:lnTo>
                <a:lnTo>
                  <a:pt x="88812" y="20200"/>
                </a:lnTo>
                <a:lnTo>
                  <a:pt x="88812" y="1400"/>
                </a:lnTo>
                <a:close/>
              </a:path>
              <a:path fill="darkenLess" w="90212" h="21600">
                <a:moveTo>
                  <a:pt x="90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12" y="20200"/>
                </a:lnTo>
                <a:close/>
              </a:path>
              <a:path fill="lighten" w="90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07360" y="1943280"/>
            <a:ext cx="1736640" cy="1125360"/>
          </a:xfrm>
          <a:custGeom>
            <a:avLst/>
            <a:gdLst>
              <a:gd name="textAreaLeft" fmla="*/ 72720 w 1736640"/>
              <a:gd name="textAreaRight" fmla="*/ 1663920 w 173664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33329" h="21600">
                <a:moveTo>
                  <a:pt x="0" y="0"/>
                </a:moveTo>
                <a:lnTo>
                  <a:pt x="33329" y="0"/>
                </a:lnTo>
                <a:lnTo>
                  <a:pt x="33329" y="21600"/>
                </a:lnTo>
                <a:lnTo>
                  <a:pt x="0" y="21600"/>
                </a:lnTo>
                <a:close/>
              </a:path>
              <a:path fill="lightenLess" w="33329" h="21600">
                <a:moveTo>
                  <a:pt x="0" y="0"/>
                </a:moveTo>
                <a:lnTo>
                  <a:pt x="33329" y="0"/>
                </a:lnTo>
                <a:lnTo>
                  <a:pt x="31929" y="1400"/>
                </a:lnTo>
                <a:lnTo>
                  <a:pt x="1400" y="1400"/>
                </a:lnTo>
                <a:close/>
              </a:path>
              <a:path fill="darken" w="33329" h="21600">
                <a:moveTo>
                  <a:pt x="33329" y="0"/>
                </a:moveTo>
                <a:lnTo>
                  <a:pt x="33329" y="21600"/>
                </a:lnTo>
                <a:lnTo>
                  <a:pt x="31929" y="20200"/>
                </a:lnTo>
                <a:lnTo>
                  <a:pt x="31929" y="1400"/>
                </a:lnTo>
                <a:close/>
              </a:path>
              <a:path fill="darkenLess" w="33329" h="21600">
                <a:moveTo>
                  <a:pt x="333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29" y="20200"/>
                </a:lnTo>
                <a:close/>
              </a:path>
              <a:path fill="lighten" w="333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 cos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din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n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039000"/>
            <a:ext cx="4770360" cy="630000"/>
          </a:xfrm>
          <a:custGeom>
            <a:avLst/>
            <a:gdLst>
              <a:gd name="textAreaLeft" fmla="*/ 40680 w 4770360"/>
              <a:gd name="textAreaRight" fmla="*/ 4729680 w 4770360"/>
              <a:gd name="textAreaTop" fmla="*/ 40680 h 630000"/>
              <a:gd name="textAreaBottom" fmla="*/ 589320 h 630000"/>
            </a:gdLst>
            <a:ahLst/>
            <a:rect l="textAreaLeft" t="textAreaTop" r="textAreaRight" b="textAreaBottom"/>
            <a:pathLst>
              <a:path w="163474" h="21600">
                <a:moveTo>
                  <a:pt x="0" y="0"/>
                </a:moveTo>
                <a:lnTo>
                  <a:pt x="163474" y="0"/>
                </a:lnTo>
                <a:lnTo>
                  <a:pt x="163474" y="21600"/>
                </a:lnTo>
                <a:lnTo>
                  <a:pt x="0" y="21600"/>
                </a:lnTo>
                <a:close/>
              </a:path>
              <a:path fill="lightenLess" w="163474" h="21600">
                <a:moveTo>
                  <a:pt x="0" y="0"/>
                </a:moveTo>
                <a:lnTo>
                  <a:pt x="163474" y="0"/>
                </a:lnTo>
                <a:lnTo>
                  <a:pt x="162074" y="1400"/>
                </a:lnTo>
                <a:lnTo>
                  <a:pt x="1400" y="1400"/>
                </a:lnTo>
                <a:close/>
              </a:path>
              <a:path fill="darken" w="163474" h="21600">
                <a:moveTo>
                  <a:pt x="163474" y="0"/>
                </a:moveTo>
                <a:lnTo>
                  <a:pt x="163474" y="21600"/>
                </a:lnTo>
                <a:lnTo>
                  <a:pt x="162074" y="20200"/>
                </a:lnTo>
                <a:lnTo>
                  <a:pt x="162074" y="1400"/>
                </a:lnTo>
                <a:close/>
              </a:path>
              <a:path fill="darkenLess" w="163474" h="21600">
                <a:moveTo>
                  <a:pt x="163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074" y="20200"/>
                </a:lnTo>
                <a:close/>
              </a:path>
              <a:path fill="lighten" w="163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 cos x grafikas gaunamas y=sin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k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stūmus į kairę per    vienetų,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86280" y="6272280"/>
            <a:ext cx="22536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0"/>
                            </p:stCondLst>
                            <p:childTnLst>
                              <p:par>
                                <p:cTn id="4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8500"/>
                            </p:stCondLst>
                            <p:childTnLst>
                              <p:par>
                                <p:cTn id="4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cos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cos x) = (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∞;+∞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(cos x) 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[-1; 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yginė f-ja cos(-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(x)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x periodinė f-ja T= 2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-ja didėja, kai 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[-</a:t>
            </a: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;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] 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-ja m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žėja, kai 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s x&gt;0, 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s x&lt;0, 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.   f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1,kai x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in 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1,kai x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132000" y="4103640"/>
                <a:ext cx="2835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8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9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Lygčių cos x = a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1280" y="1584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Kai cos 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x= arccos 1+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 0+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x= 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i cos x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 arc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+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Kai cos x=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x=arccos(-1)+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arccos1)+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i -1&lt;a&lt;1 ir a≠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 x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 ± arccos a +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n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22360" y="4734000"/>
                <a:ext cx="38703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712360" y="6173640"/>
            <a:ext cx="431640" cy="4971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97160"/>
              <a:gd name="textAreaBottom" fmla="*/ 469440 h 497160"/>
            </a:gdLst>
            <a:ahLst/>
            <a:rect l="textAreaLeft" t="textAreaTop" r="textAreaRight" b="textAreaBottom"/>
            <a:pathLst>
              <a:path w="21600" h="24876">
                <a:moveTo>
                  <a:pt x="0" y="0"/>
                </a:moveTo>
                <a:lnTo>
                  <a:pt x="21600" y="0"/>
                </a:lnTo>
                <a:lnTo>
                  <a:pt x="21600" y="24876"/>
                </a:lnTo>
                <a:lnTo>
                  <a:pt x="0" y="24876"/>
                </a:lnTo>
                <a:close/>
              </a:path>
              <a:path fill="lightenLess" w="21600" h="248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76">
                <a:moveTo>
                  <a:pt x="21600" y="0"/>
                </a:moveTo>
                <a:lnTo>
                  <a:pt x="21600" y="24876"/>
                </a:lnTo>
                <a:lnTo>
                  <a:pt x="20200" y="23476"/>
                </a:lnTo>
                <a:lnTo>
                  <a:pt x="20200" y="1400"/>
                </a:lnTo>
                <a:close/>
              </a:path>
              <a:path fill="darkenLess" w="21600" h="24876">
                <a:moveTo>
                  <a:pt x="21600" y="24876"/>
                </a:moveTo>
                <a:lnTo>
                  <a:pt x="0" y="24876"/>
                </a:lnTo>
                <a:lnTo>
                  <a:pt x="1400" y="23476"/>
                </a:lnTo>
                <a:lnTo>
                  <a:pt x="20200" y="23476"/>
                </a:lnTo>
                <a:close/>
              </a:path>
              <a:path fill="lighten" w="21600" h="24876">
                <a:moveTo>
                  <a:pt x="0" y="248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76"/>
                </a:lnTo>
                <a:close/>
              </a:path>
              <a:path fill="darken" w="21600" h="24876">
                <a:moveTo>
                  <a:pt x="3794" y="5432"/>
                </a:moveTo>
                <a:lnTo>
                  <a:pt x="17806" y="12438"/>
                </a:lnTo>
                <a:lnTo>
                  <a:pt x="3794" y="194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8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9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Lygčių cos x = a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i a&gt;1 ir a&lt;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rend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ų ne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os 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os 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ndinių neturi             sprendinių ne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elygyb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ių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06280" y="1314360"/>
          <a:ext cx="6751800" cy="5221440"/>
        </p:xfrm>
        <a:graphic>
          <a:graphicData uri="http://schemas.openxmlformats.org/drawingml/2006/table">
            <a:tbl>
              <a:tblPr/>
              <a:tblGrid>
                <a:gridCol w="452520"/>
                <a:gridCol w="450720"/>
                <a:gridCol w="451080"/>
                <a:gridCol w="426960"/>
                <a:gridCol w="473040"/>
                <a:gridCol w="439920"/>
                <a:gridCol w="461880"/>
                <a:gridCol w="457200"/>
                <a:gridCol w="444600"/>
                <a:gridCol w="448920"/>
                <a:gridCol w="452520"/>
                <a:gridCol w="453960"/>
                <a:gridCol w="417600"/>
                <a:gridCol w="484200"/>
                <a:gridCol w="43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206280" y="3968640"/>
            <a:ext cx="679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906640" y="1402920"/>
            <a:ext cx="0" cy="5086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041640" y="1449360"/>
                <a:ext cx="405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732720" y="3564000"/>
                <a:ext cx="333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197000" y="3924360"/>
                <a:ext cx="5731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167360" y="4014720"/>
                <a:ext cx="2952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562720" y="4059360"/>
                <a:ext cx="2458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951280" y="4059360"/>
                <a:ext cx="288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0" y="4103640"/>
                <a:ext cx="4762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951280" y="2708280"/>
                <a:ext cx="2746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816280" y="4824360"/>
                <a:ext cx="512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732720" y="4059360"/>
                <a:ext cx="450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677000" y="1314360"/>
                <a:ext cx="112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&gt;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182000" y="2124000"/>
            <a:ext cx="1962000" cy="58572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23" h="21600">
                <a:moveTo>
                  <a:pt x="0" y="0"/>
                </a:moveTo>
                <a:lnTo>
                  <a:pt x="72323" y="0"/>
                </a:lnTo>
                <a:lnTo>
                  <a:pt x="72323" y="21600"/>
                </a:lnTo>
                <a:lnTo>
                  <a:pt x="0" y="21600"/>
                </a:lnTo>
                <a:close/>
              </a:path>
              <a:path fill="lightenLess" w="72323" h="21600">
                <a:moveTo>
                  <a:pt x="0" y="0"/>
                </a:moveTo>
                <a:lnTo>
                  <a:pt x="72323" y="0"/>
                </a:lnTo>
                <a:lnTo>
                  <a:pt x="70923" y="1400"/>
                </a:lnTo>
                <a:lnTo>
                  <a:pt x="1400" y="1400"/>
                </a:lnTo>
                <a:close/>
              </a:path>
              <a:path fill="darken" w="72323" h="21600">
                <a:moveTo>
                  <a:pt x="72323" y="0"/>
                </a:moveTo>
                <a:lnTo>
                  <a:pt x="72323" y="21600"/>
                </a:lnTo>
                <a:lnTo>
                  <a:pt x="70923" y="20200"/>
                </a:lnTo>
                <a:lnTo>
                  <a:pt x="70923" y="1400"/>
                </a:lnTo>
                <a:close/>
              </a:path>
              <a:path fill="darkenLess" w="72323" h="21600">
                <a:moveTo>
                  <a:pt x="72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23" y="20200"/>
                </a:lnTo>
                <a:close/>
              </a:path>
              <a:path fill="lighten" w="72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aižome grafi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t-L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c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82000" y="3608280"/>
            <a:ext cx="1962000" cy="58572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23" h="21600">
                <a:moveTo>
                  <a:pt x="0" y="0"/>
                </a:moveTo>
                <a:lnTo>
                  <a:pt x="72323" y="0"/>
                </a:lnTo>
                <a:lnTo>
                  <a:pt x="72323" y="21600"/>
                </a:lnTo>
                <a:lnTo>
                  <a:pt x="0" y="21600"/>
                </a:lnTo>
                <a:close/>
              </a:path>
              <a:path fill="lightenLess" w="72323" h="21600">
                <a:moveTo>
                  <a:pt x="0" y="0"/>
                </a:moveTo>
                <a:lnTo>
                  <a:pt x="72323" y="0"/>
                </a:lnTo>
                <a:lnTo>
                  <a:pt x="70923" y="1400"/>
                </a:lnTo>
                <a:lnTo>
                  <a:pt x="1400" y="1400"/>
                </a:lnTo>
                <a:close/>
              </a:path>
              <a:path fill="darken" w="72323" h="21600">
                <a:moveTo>
                  <a:pt x="72323" y="0"/>
                </a:moveTo>
                <a:lnTo>
                  <a:pt x="72323" y="21600"/>
                </a:lnTo>
                <a:lnTo>
                  <a:pt x="70923" y="20200"/>
                </a:lnTo>
                <a:lnTo>
                  <a:pt x="70923" y="1400"/>
                </a:lnTo>
                <a:close/>
              </a:path>
              <a:path fill="darkenLess" w="72323" h="21600">
                <a:moveTo>
                  <a:pt x="72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23" y="20200"/>
                </a:lnTo>
                <a:close/>
              </a:path>
              <a:path fill="lighten" w="72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Nustatome susiki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mo taš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82000" y="4329000"/>
            <a:ext cx="1962000" cy="58608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72278" h="21600">
                <a:moveTo>
                  <a:pt x="0" y="0"/>
                </a:moveTo>
                <a:lnTo>
                  <a:pt x="72278" y="0"/>
                </a:lnTo>
                <a:lnTo>
                  <a:pt x="72278" y="21600"/>
                </a:lnTo>
                <a:lnTo>
                  <a:pt x="0" y="21600"/>
                </a:lnTo>
                <a:close/>
              </a:path>
              <a:path fill="lightenLess" w="72278" h="21600">
                <a:moveTo>
                  <a:pt x="0" y="0"/>
                </a:moveTo>
                <a:lnTo>
                  <a:pt x="72278" y="0"/>
                </a:lnTo>
                <a:lnTo>
                  <a:pt x="70879" y="1400"/>
                </a:lnTo>
                <a:lnTo>
                  <a:pt x="1400" y="1400"/>
                </a:lnTo>
                <a:close/>
              </a:path>
              <a:path fill="darken" w="72278" h="21600">
                <a:moveTo>
                  <a:pt x="72278" y="0"/>
                </a:moveTo>
                <a:lnTo>
                  <a:pt x="72278" y="21600"/>
                </a:lnTo>
                <a:lnTo>
                  <a:pt x="70879" y="20200"/>
                </a:lnTo>
                <a:lnTo>
                  <a:pt x="70879" y="1400"/>
                </a:lnTo>
                <a:close/>
              </a:path>
              <a:path fill="darkenLess" w="72278" h="21600">
                <a:moveTo>
                  <a:pt x="7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879" y="20200"/>
                </a:lnTo>
                <a:close/>
              </a:path>
              <a:path fill="lighten" w="7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ėži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tatme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x 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š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82000" y="5049720"/>
            <a:ext cx="1962000" cy="58608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72278" h="21600">
                <a:moveTo>
                  <a:pt x="0" y="0"/>
                </a:moveTo>
                <a:lnTo>
                  <a:pt x="72278" y="0"/>
                </a:lnTo>
                <a:lnTo>
                  <a:pt x="72278" y="21600"/>
                </a:lnTo>
                <a:lnTo>
                  <a:pt x="0" y="21600"/>
                </a:lnTo>
                <a:close/>
              </a:path>
              <a:path fill="lightenLess" w="72278" h="21600">
                <a:moveTo>
                  <a:pt x="0" y="0"/>
                </a:moveTo>
                <a:lnTo>
                  <a:pt x="72278" y="0"/>
                </a:lnTo>
                <a:lnTo>
                  <a:pt x="70879" y="1400"/>
                </a:lnTo>
                <a:lnTo>
                  <a:pt x="1400" y="1400"/>
                </a:lnTo>
                <a:close/>
              </a:path>
              <a:path fill="darken" w="72278" h="21600">
                <a:moveTo>
                  <a:pt x="72278" y="0"/>
                </a:moveTo>
                <a:lnTo>
                  <a:pt x="72278" y="21600"/>
                </a:lnTo>
                <a:lnTo>
                  <a:pt x="70879" y="20200"/>
                </a:lnTo>
                <a:lnTo>
                  <a:pt x="70879" y="1400"/>
                </a:lnTo>
                <a:close/>
              </a:path>
              <a:path fill="darkenLess" w="72278" h="21600">
                <a:moveTo>
                  <a:pt x="7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879" y="20200"/>
                </a:lnTo>
                <a:close/>
              </a:path>
              <a:path fill="lighten" w="7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tatome spr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inių interval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182000" y="2754360"/>
            <a:ext cx="1962000" cy="718920"/>
            <a:chOff x="7182000" y="2754360"/>
            <a:chExt cx="1962000" cy="718920"/>
          </a:xfrm>
        </p:grpSpPr>
        <p:sp>
          <p:nvSpPr>
            <p:cNvPr id="265" name=""/>
            <p:cNvSpPr/>
            <p:nvPr/>
          </p:nvSpPr>
          <p:spPr>
            <a:xfrm>
              <a:off x="7182000" y="2843280"/>
              <a:ext cx="1962000" cy="585720"/>
            </a:xfrm>
            <a:custGeom>
              <a:avLst/>
              <a:gdLst>
                <a:gd name="textAreaLeft" fmla="*/ 37800 w 1962000"/>
                <a:gd name="textAreaRight" fmla="*/ 1924200 w 1962000"/>
                <a:gd name="textAreaTop" fmla="*/ 37800 h 585720"/>
                <a:gd name="textAreaBottom" fmla="*/ 547920 h 585720"/>
              </a:gdLst>
              <a:ahLst/>
              <a:rect l="textAreaLeft" t="textAreaTop" r="textAreaRight" b="textAreaBottom"/>
              <a:pathLst>
                <a:path w="72323" h="21600">
                  <a:moveTo>
                    <a:pt x="0" y="0"/>
                  </a:moveTo>
                  <a:lnTo>
                    <a:pt x="72323" y="0"/>
                  </a:lnTo>
                  <a:lnTo>
                    <a:pt x="72323" y="21600"/>
                  </a:lnTo>
                  <a:lnTo>
                    <a:pt x="0" y="21600"/>
                  </a:lnTo>
                  <a:close/>
                </a:path>
                <a:path fill="lightenLess" w="72323" h="21600">
                  <a:moveTo>
                    <a:pt x="0" y="0"/>
                  </a:moveTo>
                  <a:lnTo>
                    <a:pt x="72323" y="0"/>
                  </a:lnTo>
                  <a:lnTo>
                    <a:pt x="70923" y="1400"/>
                  </a:lnTo>
                  <a:lnTo>
                    <a:pt x="1400" y="1400"/>
                  </a:lnTo>
                  <a:close/>
                </a:path>
                <a:path fill="darken" w="72323" h="21600">
                  <a:moveTo>
                    <a:pt x="72323" y="0"/>
                  </a:moveTo>
                  <a:lnTo>
                    <a:pt x="72323" y="21600"/>
                  </a:lnTo>
                  <a:lnTo>
                    <a:pt x="70923" y="20200"/>
                  </a:lnTo>
                  <a:lnTo>
                    <a:pt x="70923" y="1400"/>
                  </a:lnTo>
                  <a:close/>
                </a:path>
                <a:path fill="darkenLess" w="72323" h="21600">
                  <a:moveTo>
                    <a:pt x="7232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0923" y="20200"/>
                  </a:lnTo>
                  <a:close/>
                </a:path>
                <a:path fill="lighten" w="7232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497720" y="2754360"/>
                  <a:ext cx="121608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7" name=""/>
          <p:cNvGrpSpPr/>
          <p:nvPr/>
        </p:nvGrpSpPr>
        <p:grpSpPr>
          <a:xfrm>
            <a:off x="206280" y="2882880"/>
            <a:ext cx="6705720" cy="2436840"/>
            <a:chOff x="206280" y="2882880"/>
            <a:chExt cx="6705720" cy="243684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5832360" y="5003640"/>
                  <a:ext cx="10350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206280" y="2882880"/>
              <a:ext cx="6705720" cy="2114640"/>
            </a:xfrm>
            <a:custGeom>
              <a:avLst/>
              <a:gdLst/>
              <a:ahLst/>
              <a:rect l="l" t="t" r="r" b="b"/>
              <a:pathLst>
                <a:path w="4224" h="1332">
                  <a:moveTo>
                    <a:pt x="0" y="1304"/>
                  </a:moveTo>
                  <a:cubicBezTo>
                    <a:pt x="284" y="1100"/>
                    <a:pt x="568" y="897"/>
                    <a:pt x="851" y="680"/>
                  </a:cubicBezTo>
                  <a:cubicBezTo>
                    <a:pt x="1134" y="463"/>
                    <a:pt x="1418" y="0"/>
                    <a:pt x="1701" y="0"/>
                  </a:cubicBezTo>
                  <a:cubicBezTo>
                    <a:pt x="1984" y="0"/>
                    <a:pt x="2269" y="458"/>
                    <a:pt x="2552" y="680"/>
                  </a:cubicBezTo>
                  <a:cubicBezTo>
                    <a:pt x="2835" y="902"/>
                    <a:pt x="3123" y="1332"/>
                    <a:pt x="3402" y="1332"/>
                  </a:cubicBezTo>
                  <a:cubicBezTo>
                    <a:pt x="3681" y="1332"/>
                    <a:pt x="3952" y="1006"/>
                    <a:pt x="4224" y="68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276640" y="3294000"/>
            <a:ext cx="1349280" cy="763560"/>
            <a:chOff x="2276640" y="3294000"/>
            <a:chExt cx="1349280" cy="763560"/>
          </a:xfrm>
        </p:grpSpPr>
        <p:sp>
          <p:nvSpPr>
            <p:cNvPr id="271" name=""/>
            <p:cNvSpPr/>
            <p:nvPr/>
          </p:nvSpPr>
          <p:spPr>
            <a:xfrm>
              <a:off x="3400560" y="3833640"/>
              <a:ext cx="225360" cy="22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76640" y="3833640"/>
              <a:ext cx="225360" cy="22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7000" y="329400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92360" y="333864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06280" y="2394000"/>
            <a:ext cx="6705720" cy="809640"/>
            <a:chOff x="206280" y="2394000"/>
            <a:chExt cx="6705720" cy="809640"/>
          </a:xfrm>
        </p:grpSpPr>
        <p:sp>
          <p:nvSpPr>
            <p:cNvPr id="276" name=""/>
            <p:cNvSpPr/>
            <p:nvPr/>
          </p:nvSpPr>
          <p:spPr>
            <a:xfrm>
              <a:off x="206280" y="3203640"/>
              <a:ext cx="6705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4886280" y="2394000"/>
                  <a:ext cx="126216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707000" y="5904000"/>
                <a:ext cx="32972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2276640" y="3114720"/>
            <a:ext cx="1349280" cy="223560"/>
            <a:chOff x="2276640" y="3114720"/>
            <a:chExt cx="1349280" cy="223560"/>
          </a:xfrm>
        </p:grpSpPr>
        <p:sp>
          <p:nvSpPr>
            <p:cNvPr id="280" name=""/>
            <p:cNvSpPr/>
            <p:nvPr/>
          </p:nvSpPr>
          <p:spPr>
            <a:xfrm>
              <a:off x="3400560" y="3114720"/>
              <a:ext cx="225360" cy="22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76640" y="3114720"/>
              <a:ext cx="225360" cy="22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22360" y="4059360"/>
            <a:ext cx="4408560" cy="2187360"/>
            <a:chOff x="522360" y="4059360"/>
            <a:chExt cx="4408560" cy="2187360"/>
          </a:xfrm>
        </p:grpSpPr>
        <p:sp>
          <p:nvSpPr>
            <p:cNvPr id="284" name=""/>
            <p:cNvSpPr/>
            <p:nvPr/>
          </p:nvSpPr>
          <p:spPr>
            <a:xfrm>
              <a:off x="2322360" y="4059360"/>
              <a:ext cx="12146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3446640" y="4059360"/>
                  <a:ext cx="36036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2141640" y="4059360"/>
                  <a:ext cx="3603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522360" y="5499000"/>
                  <a:ext cx="188892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cos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3986280" y="5499000"/>
                  <a:ext cx="94464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600200"/>
          <a:ext cx="5824440" cy="5175360"/>
        </p:xfrm>
        <a:graphic>
          <a:graphicData uri="http://schemas.openxmlformats.org/drawingml/2006/table">
            <a:tbl>
              <a:tblPr/>
              <a:tblGrid>
                <a:gridCol w="477720"/>
                <a:gridCol w="478080"/>
                <a:gridCol w="477720"/>
                <a:gridCol w="477720"/>
                <a:gridCol w="478080"/>
                <a:gridCol w="479160"/>
                <a:gridCol w="525600"/>
                <a:gridCol w="430200"/>
                <a:gridCol w="477720"/>
                <a:gridCol w="478080"/>
                <a:gridCol w="549000"/>
                <a:gridCol w="49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3311640" y="1538280"/>
            <a:ext cx="365040" cy="5084640"/>
            <a:chOff x="3311640" y="1538280"/>
            <a:chExt cx="365040" cy="5084640"/>
          </a:xfrm>
        </p:grpSpPr>
        <p:sp>
          <p:nvSpPr>
            <p:cNvPr id="292" name=""/>
            <p:cNvSpPr/>
            <p:nvPr/>
          </p:nvSpPr>
          <p:spPr>
            <a:xfrm flipV="1">
              <a:off x="3311640" y="1538280"/>
              <a:ext cx="0" cy="508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3402000" y="3429000"/>
                  <a:ext cx="2746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921280" y="4240080"/>
                <a:ext cx="333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311640" y="5545080"/>
                <a:ext cx="512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511280" y="4691160"/>
                <a:ext cx="5731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616280" y="4735440"/>
                <a:ext cx="2955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921280" y="4826160"/>
                <a:ext cx="24624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357720" y="4735440"/>
                <a:ext cx="288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50920" y="4826160"/>
                <a:ext cx="47628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357720" y="1628640"/>
                <a:ext cx="404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372360" y="1763640"/>
            <a:ext cx="2609640" cy="2114640"/>
          </a:xfrm>
          <a:custGeom>
            <a:avLst/>
            <a:gdLst>
              <a:gd name="textAreaLeft" fmla="*/ 136800 w 2609640"/>
              <a:gd name="textAreaRight" fmla="*/ 2472840 w 2609640"/>
              <a:gd name="textAreaTop" fmla="*/ 136800 h 2114640"/>
              <a:gd name="textAreaBottom" fmla="*/ 1977840 h 2114640"/>
            </a:gdLst>
            <a:ahLst/>
            <a:rect l="textAreaLeft" t="textAreaTop" r="textAreaRight" b="textAreaBottom"/>
            <a:pathLst>
              <a:path w="26655" h="21600">
                <a:moveTo>
                  <a:pt x="0" y="0"/>
                </a:moveTo>
                <a:lnTo>
                  <a:pt x="26655" y="0"/>
                </a:lnTo>
                <a:lnTo>
                  <a:pt x="26655" y="21600"/>
                </a:lnTo>
                <a:lnTo>
                  <a:pt x="0" y="21600"/>
                </a:lnTo>
                <a:close/>
              </a:path>
              <a:path fill="lightenLess" w="26655" h="21600">
                <a:moveTo>
                  <a:pt x="0" y="0"/>
                </a:moveTo>
                <a:lnTo>
                  <a:pt x="26655" y="0"/>
                </a:lnTo>
                <a:lnTo>
                  <a:pt x="25255" y="1400"/>
                </a:lnTo>
                <a:lnTo>
                  <a:pt x="1400" y="1400"/>
                </a:lnTo>
                <a:close/>
              </a:path>
              <a:path fill="darken" w="26655" h="21600">
                <a:moveTo>
                  <a:pt x="26655" y="0"/>
                </a:moveTo>
                <a:lnTo>
                  <a:pt x="26655" y="21600"/>
                </a:lnTo>
                <a:lnTo>
                  <a:pt x="25255" y="20200"/>
                </a:lnTo>
                <a:lnTo>
                  <a:pt x="25255" y="1400"/>
                </a:lnTo>
                <a:close/>
              </a:path>
              <a:path fill="darkenLess" w="26655" h="21600">
                <a:moveTo>
                  <a:pt x="26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5" y="20200"/>
                </a:lnTo>
                <a:close/>
              </a:path>
              <a:path fill="lighten" w="26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ja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)=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rcc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virkštinė f-ja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rcc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grafi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gaunam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grafik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ix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[0;</a:t>
            </a:r>
            <a:r>
              <a:rPr b="0" lang="lt-LT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metriškai atvaizdav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iesės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x atžvilg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322360" y="1538280"/>
            <a:ext cx="3870000" cy="4185720"/>
            <a:chOff x="2322360" y="1538280"/>
            <a:chExt cx="3870000" cy="4185720"/>
          </a:xfrm>
        </p:grpSpPr>
        <p:grpSp>
          <p:nvGrpSpPr>
            <p:cNvPr id="304" name=""/>
            <p:cNvGrpSpPr/>
            <p:nvPr/>
          </p:nvGrpSpPr>
          <p:grpSpPr>
            <a:xfrm>
              <a:off x="3311640" y="3654360"/>
              <a:ext cx="1079280" cy="1125720"/>
              <a:chOff x="3311640" y="3654360"/>
              <a:chExt cx="1079280" cy="1125720"/>
            </a:xfrm>
          </p:grpSpPr>
          <p:sp>
            <p:nvSpPr>
              <p:cNvPr id="305" name=""/>
              <p:cNvSpPr/>
              <p:nvPr/>
            </p:nvSpPr>
            <p:spPr>
              <a:xfrm>
                <a:off x="4255920" y="4599000"/>
                <a:ext cx="135000" cy="181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1640" y="3654360"/>
                <a:ext cx="990360" cy="10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267000" y="3068640"/>
              <a:ext cx="1484280" cy="1620720"/>
              <a:chOff x="3267000" y="3068640"/>
              <a:chExt cx="1484280" cy="1620720"/>
            </a:xfrm>
          </p:grpSpPr>
          <p:sp>
            <p:nvSpPr>
              <p:cNvPr id="308" name=""/>
              <p:cNvSpPr/>
              <p:nvPr/>
            </p:nvSpPr>
            <p:spPr>
              <a:xfrm>
                <a:off x="3267000" y="3068640"/>
                <a:ext cx="135000" cy="181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11640" y="3159000"/>
                <a:ext cx="1439640" cy="153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322360" y="1538280"/>
              <a:ext cx="3870000" cy="4185720"/>
              <a:chOff x="2322360" y="1538280"/>
              <a:chExt cx="3870000" cy="4185720"/>
            </a:xfrm>
          </p:grpSpPr>
          <p:sp>
            <p:nvSpPr>
              <p:cNvPr id="311" name=""/>
              <p:cNvSpPr/>
              <p:nvPr/>
            </p:nvSpPr>
            <p:spPr>
              <a:xfrm>
                <a:off x="2322360" y="1538280"/>
                <a:ext cx="135000" cy="181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2366640" y="1628280"/>
                <a:ext cx="3825720" cy="409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1062000" y="1628640"/>
            <a:ext cx="3240000" cy="3105360"/>
            <a:chOff x="1062000" y="1628640"/>
            <a:chExt cx="3240000" cy="3105360"/>
          </a:xfrm>
        </p:grpSpPr>
        <p:sp>
          <p:nvSpPr>
            <p:cNvPr id="314" name=""/>
            <p:cNvSpPr/>
            <p:nvPr/>
          </p:nvSpPr>
          <p:spPr>
            <a:xfrm>
              <a:off x="2367000" y="1628640"/>
              <a:ext cx="1935000" cy="3105360"/>
            </a:xfrm>
            <a:custGeom>
              <a:avLst/>
              <a:gdLst/>
              <a:ahLst/>
              <a:rect l="l" t="t" r="r" b="b"/>
              <a:pathLst>
                <a:path w="1219" h="1956">
                  <a:moveTo>
                    <a:pt x="1219" y="1956"/>
                  </a:moveTo>
                  <a:cubicBezTo>
                    <a:pt x="1112" y="1698"/>
                    <a:pt x="1006" y="1441"/>
                    <a:pt x="907" y="1276"/>
                  </a:cubicBezTo>
                  <a:cubicBezTo>
                    <a:pt x="808" y="1111"/>
                    <a:pt x="723" y="1073"/>
                    <a:pt x="624" y="964"/>
                  </a:cubicBezTo>
                  <a:cubicBezTo>
                    <a:pt x="525" y="855"/>
                    <a:pt x="416" y="785"/>
                    <a:pt x="312" y="624"/>
                  </a:cubicBezTo>
                  <a:cubicBezTo>
                    <a:pt x="208" y="463"/>
                    <a:pt x="52" y="104"/>
                    <a:pt x="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062000" y="2124000"/>
                  <a:ext cx="14842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6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5454720"/>
            <a:ext cx="2070000" cy="495360"/>
          </a:xfrm>
          <a:custGeom>
            <a:avLst/>
            <a:gdLst>
              <a:gd name="textAreaLeft" fmla="*/ 32040 w 2070000"/>
              <a:gd name="textAreaRight" fmla="*/ 2037960 w 207000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12" h="21600">
                <a:moveTo>
                  <a:pt x="0" y="0"/>
                </a:moveTo>
                <a:lnTo>
                  <a:pt x="90212" y="0"/>
                </a:lnTo>
                <a:lnTo>
                  <a:pt x="90212" y="21600"/>
                </a:lnTo>
                <a:lnTo>
                  <a:pt x="0" y="21600"/>
                </a:lnTo>
                <a:close/>
              </a:path>
              <a:path fill="lightenLess" w="90212" h="21600">
                <a:moveTo>
                  <a:pt x="0" y="0"/>
                </a:moveTo>
                <a:lnTo>
                  <a:pt x="90212" y="0"/>
                </a:lnTo>
                <a:lnTo>
                  <a:pt x="88812" y="1400"/>
                </a:lnTo>
                <a:lnTo>
                  <a:pt x="1400" y="1400"/>
                </a:lnTo>
                <a:close/>
              </a:path>
              <a:path fill="darken" w="90212" h="21600">
                <a:moveTo>
                  <a:pt x="90212" y="0"/>
                </a:moveTo>
                <a:lnTo>
                  <a:pt x="90212" y="21600"/>
                </a:lnTo>
                <a:lnTo>
                  <a:pt x="88812" y="20200"/>
                </a:lnTo>
                <a:lnTo>
                  <a:pt x="88812" y="1400"/>
                </a:lnTo>
                <a:close/>
              </a:path>
              <a:path fill="darkenLess" w="90212" h="21600">
                <a:moveTo>
                  <a:pt x="90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12" y="20200"/>
                </a:lnTo>
                <a:close/>
              </a:path>
              <a:path fill="lighten" w="90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311640" y="3654360"/>
            <a:ext cx="2881080" cy="2195640"/>
            <a:chOff x="3311640" y="3654360"/>
            <a:chExt cx="2881080" cy="2195640"/>
          </a:xfrm>
        </p:grpSpPr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4797360" y="5543640"/>
                  <a:ext cx="11080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"/>
            <p:cNvSpPr/>
            <p:nvPr/>
          </p:nvSpPr>
          <p:spPr>
            <a:xfrm>
              <a:off x="3311640" y="3654360"/>
              <a:ext cx="2881080" cy="2070000"/>
            </a:xfrm>
            <a:custGeom>
              <a:avLst/>
              <a:gdLst/>
              <a:ahLst/>
              <a:rect l="l" t="t" r="r" b="b"/>
              <a:pathLst>
                <a:path w="1815" h="1304">
                  <a:moveTo>
                    <a:pt x="0" y="0"/>
                  </a:moveTo>
                  <a:cubicBezTo>
                    <a:pt x="137" y="59"/>
                    <a:pt x="274" y="118"/>
                    <a:pt x="425" y="227"/>
                  </a:cubicBezTo>
                  <a:cubicBezTo>
                    <a:pt x="576" y="336"/>
                    <a:pt x="732" y="506"/>
                    <a:pt x="907" y="652"/>
                  </a:cubicBezTo>
                  <a:cubicBezTo>
                    <a:pt x="1082" y="798"/>
                    <a:pt x="1323" y="996"/>
                    <a:pt x="1474" y="1105"/>
                  </a:cubicBezTo>
                  <a:cubicBezTo>
                    <a:pt x="1625" y="1214"/>
                    <a:pt x="1720" y="1259"/>
                    <a:pt x="1815" y="130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76280" y="468936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097000" y="2438280"/>
            <a:ext cx="3830760" cy="3600720"/>
            <a:chOff x="2097000" y="2438280"/>
            <a:chExt cx="3830760" cy="3600720"/>
          </a:xfrm>
        </p:grpSpPr>
        <p:sp>
          <p:nvSpPr>
            <p:cNvPr id="323" name=""/>
            <p:cNvSpPr/>
            <p:nvPr/>
          </p:nvSpPr>
          <p:spPr>
            <a:xfrm flipH="1">
              <a:off x="2097000" y="2438280"/>
              <a:ext cx="3330720" cy="36007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84160" y="257328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7000"/>
                            </p:stCondLst>
                            <p:childTnLst>
                              <p:par>
                                <p:cTn id="7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9000"/>
                            </p:stCondLst>
                            <p:childTnLst>
                              <p:par>
                                <p:cTn id="7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Jei 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rccos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= b,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tai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cos b = 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ir 0≤b≤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D(arccos x) = [-1;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E(arc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x) = [0;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Arccos  x yra nei lyginė, nei nelyginė f-ja                   arccos(-x)=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-arcco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os(arccos x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z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447920" y="5029200"/>
                <a:ext cx="3079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7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Funkcija f(x) = tg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09840" y="20797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Grafi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376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Lygt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0984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Nelyg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3268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F (x)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=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arctg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500"/>
                            </p:stCondLst>
                            <p:childTnLst>
                              <p:par>
                                <p:cTn id="78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9000"/>
                            </p:stCondLst>
                            <p:childTnLst>
                              <p:par>
                                <p:cTn id="7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onometrinės funkc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92360" y="2079720"/>
            <a:ext cx="2565360" cy="11271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7160"/>
              <a:gd name="textAreaBottom" fmla="*/ 1054440 h 1127160"/>
            </a:gdLst>
            <a:ahLst/>
            <a:rect l="textAreaLeft" t="textAreaTop" r="textAreaRight" b="textAreaBottom"/>
            <a:pathLst>
              <a:path w="49152" h="21600">
                <a:moveTo>
                  <a:pt x="0" y="0"/>
                </a:moveTo>
                <a:lnTo>
                  <a:pt x="49152" y="0"/>
                </a:lnTo>
                <a:lnTo>
                  <a:pt x="49152" y="21600"/>
                </a:lnTo>
                <a:lnTo>
                  <a:pt x="0" y="21600"/>
                </a:lnTo>
                <a:close/>
              </a:path>
              <a:path fill="lightenLess" w="49152" h="21600">
                <a:moveTo>
                  <a:pt x="0" y="0"/>
                </a:moveTo>
                <a:lnTo>
                  <a:pt x="49152" y="0"/>
                </a:lnTo>
                <a:lnTo>
                  <a:pt x="47752" y="1400"/>
                </a:lnTo>
                <a:lnTo>
                  <a:pt x="1400" y="1400"/>
                </a:lnTo>
                <a:close/>
              </a:path>
              <a:path fill="darken" w="49152" h="21600">
                <a:moveTo>
                  <a:pt x="49152" y="0"/>
                </a:moveTo>
                <a:lnTo>
                  <a:pt x="49152" y="21600"/>
                </a:lnTo>
                <a:lnTo>
                  <a:pt x="47752" y="20200"/>
                </a:lnTo>
                <a:lnTo>
                  <a:pt x="47752" y="1400"/>
                </a:lnTo>
                <a:close/>
              </a:path>
              <a:path fill="darkenLess" w="49152" h="21600">
                <a:moveTo>
                  <a:pt x="4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752" y="20200"/>
                </a:lnTo>
                <a:close/>
              </a:path>
              <a:path fill="lighten" w="4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Funkcija f(x)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= 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16640" y="4059360"/>
            <a:ext cx="2565360" cy="11271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7160"/>
              <a:gd name="textAreaBottom" fmla="*/ 1054440 h 1127160"/>
            </a:gdLst>
            <a:ahLst/>
            <a:rect l="textAreaLeft" t="textAreaTop" r="textAreaRight" b="textAreaBottom"/>
            <a:pathLst>
              <a:path w="49152" h="21600">
                <a:moveTo>
                  <a:pt x="0" y="0"/>
                </a:moveTo>
                <a:lnTo>
                  <a:pt x="49152" y="0"/>
                </a:lnTo>
                <a:lnTo>
                  <a:pt x="49152" y="21600"/>
                </a:lnTo>
                <a:lnTo>
                  <a:pt x="0" y="21600"/>
                </a:lnTo>
                <a:close/>
              </a:path>
              <a:path fill="lightenLess" w="49152" h="21600">
                <a:moveTo>
                  <a:pt x="0" y="0"/>
                </a:moveTo>
                <a:lnTo>
                  <a:pt x="49152" y="0"/>
                </a:lnTo>
                <a:lnTo>
                  <a:pt x="47752" y="1400"/>
                </a:lnTo>
                <a:lnTo>
                  <a:pt x="1400" y="1400"/>
                </a:lnTo>
                <a:close/>
              </a:path>
              <a:path fill="darken" w="49152" h="21600">
                <a:moveTo>
                  <a:pt x="49152" y="0"/>
                </a:moveTo>
                <a:lnTo>
                  <a:pt x="49152" y="21600"/>
                </a:lnTo>
                <a:lnTo>
                  <a:pt x="47752" y="20200"/>
                </a:lnTo>
                <a:lnTo>
                  <a:pt x="47752" y="1400"/>
                </a:lnTo>
                <a:close/>
              </a:path>
              <a:path fill="darkenLess" w="49152" h="21600">
                <a:moveTo>
                  <a:pt x="4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752" y="20200"/>
                </a:lnTo>
                <a:close/>
              </a:path>
              <a:path fill="lighten" w="4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009999"/>
                </a:solidFill>
                <a:uFillTx/>
                <a:latin typeface="Arial"/>
              </a:rPr>
              <a:t>Funkcija f(x) = ctg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0560" y="4059360"/>
            <a:ext cx="2565360" cy="11271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7160"/>
              <a:gd name="textAreaBottom" fmla="*/ 1054440 h 1127160"/>
            </a:gdLst>
            <a:ahLst/>
            <a:rect l="textAreaLeft" t="textAreaTop" r="textAreaRight" b="textAreaBottom"/>
            <a:pathLst>
              <a:path w="49152" h="21600">
                <a:moveTo>
                  <a:pt x="0" y="0"/>
                </a:moveTo>
                <a:lnTo>
                  <a:pt x="49152" y="0"/>
                </a:lnTo>
                <a:lnTo>
                  <a:pt x="49152" y="21600"/>
                </a:lnTo>
                <a:lnTo>
                  <a:pt x="0" y="21600"/>
                </a:lnTo>
                <a:close/>
              </a:path>
              <a:path fill="lightenLess" w="49152" h="21600">
                <a:moveTo>
                  <a:pt x="0" y="0"/>
                </a:moveTo>
                <a:lnTo>
                  <a:pt x="49152" y="0"/>
                </a:lnTo>
                <a:lnTo>
                  <a:pt x="47752" y="1400"/>
                </a:lnTo>
                <a:lnTo>
                  <a:pt x="1400" y="1400"/>
                </a:lnTo>
                <a:close/>
              </a:path>
              <a:path fill="darken" w="49152" h="21600">
                <a:moveTo>
                  <a:pt x="49152" y="0"/>
                </a:moveTo>
                <a:lnTo>
                  <a:pt x="49152" y="21600"/>
                </a:lnTo>
                <a:lnTo>
                  <a:pt x="47752" y="20200"/>
                </a:lnTo>
                <a:lnTo>
                  <a:pt x="47752" y="1400"/>
                </a:lnTo>
                <a:close/>
              </a:path>
              <a:path fill="darkenLess" w="49152" h="21600">
                <a:moveTo>
                  <a:pt x="4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752" y="20200"/>
                </a:lnTo>
                <a:close/>
              </a:path>
              <a:path fill="lighten" w="4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Funkcija f(x)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=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co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16640" y="2079720"/>
            <a:ext cx="2565360" cy="11271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7160"/>
              <a:gd name="textAreaBottom" fmla="*/ 1054440 h 1127160"/>
            </a:gdLst>
            <a:ahLst/>
            <a:rect l="textAreaLeft" t="textAreaTop" r="textAreaRight" b="textAreaBottom"/>
            <a:pathLst>
              <a:path w="49152" h="21600">
                <a:moveTo>
                  <a:pt x="0" y="0"/>
                </a:moveTo>
                <a:lnTo>
                  <a:pt x="49152" y="0"/>
                </a:lnTo>
                <a:lnTo>
                  <a:pt x="49152" y="21600"/>
                </a:lnTo>
                <a:lnTo>
                  <a:pt x="0" y="21600"/>
                </a:lnTo>
                <a:close/>
              </a:path>
              <a:path fill="lightenLess" w="49152" h="21600">
                <a:moveTo>
                  <a:pt x="0" y="0"/>
                </a:moveTo>
                <a:lnTo>
                  <a:pt x="49152" y="0"/>
                </a:lnTo>
                <a:lnTo>
                  <a:pt x="47752" y="1400"/>
                </a:lnTo>
                <a:lnTo>
                  <a:pt x="1400" y="1400"/>
                </a:lnTo>
                <a:close/>
              </a:path>
              <a:path fill="darken" w="49152" h="21600">
                <a:moveTo>
                  <a:pt x="49152" y="0"/>
                </a:moveTo>
                <a:lnTo>
                  <a:pt x="49152" y="21600"/>
                </a:lnTo>
                <a:lnTo>
                  <a:pt x="47752" y="20200"/>
                </a:lnTo>
                <a:lnTo>
                  <a:pt x="47752" y="1400"/>
                </a:lnTo>
                <a:close/>
              </a:path>
              <a:path fill="darkenLess" w="49152" h="21600">
                <a:moveTo>
                  <a:pt x="49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752" y="20200"/>
                </a:lnTo>
                <a:close/>
              </a:path>
              <a:path fill="lighten" w="49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Funkcija f(x)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=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tg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7500"/>
                            </p:stCondLst>
                            <p:childTnLst>
                              <p:par>
                                <p:cTn id="4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f(x)=tg x grafi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701640" y="1133640"/>
          <a:ext cx="6210360" cy="5692680"/>
        </p:xfrm>
        <a:graphic>
          <a:graphicData uri="http://schemas.openxmlformats.org/drawingml/2006/table">
            <a:tbl>
              <a:tblPr/>
              <a:tblGrid>
                <a:gridCol w="517680"/>
                <a:gridCol w="517320"/>
                <a:gridCol w="517680"/>
                <a:gridCol w="517320"/>
                <a:gridCol w="517680"/>
                <a:gridCol w="517680"/>
                <a:gridCol w="517320"/>
                <a:gridCol w="517680"/>
                <a:gridCol w="517320"/>
                <a:gridCol w="517680"/>
                <a:gridCol w="517320"/>
                <a:gridCol w="51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8" name=""/>
          <p:cNvGrpSpPr/>
          <p:nvPr/>
        </p:nvGrpSpPr>
        <p:grpSpPr>
          <a:xfrm>
            <a:off x="476280" y="1179360"/>
            <a:ext cx="6435720" cy="5678640"/>
            <a:chOff x="476280" y="1179360"/>
            <a:chExt cx="6435720" cy="5678640"/>
          </a:xfrm>
        </p:grpSpPr>
        <p:sp>
          <p:nvSpPr>
            <p:cNvPr id="339" name=""/>
            <p:cNvSpPr/>
            <p:nvPr/>
          </p:nvSpPr>
          <p:spPr>
            <a:xfrm>
              <a:off x="746280" y="3699000"/>
              <a:ext cx="616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807000" y="1179360"/>
              <a:ext cx="0" cy="56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3851280" y="2484360"/>
                  <a:ext cx="2746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6461280" y="3249720"/>
                  <a:ext cx="333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3716280" y="4599000"/>
                  <a:ext cx="51300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1871640" y="3654360"/>
                  <a:ext cx="57312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5202360" y="3699000"/>
                  <a:ext cx="29520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642000" y="3789360"/>
                  <a:ext cx="24624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3897360" y="3745080"/>
                  <a:ext cx="288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476280" y="3789360"/>
                  <a:ext cx="47628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3897360" y="1268280"/>
                  <a:ext cx="4046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0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02360" y="5408640"/>
            <a:ext cx="2070360" cy="495360"/>
          </a:xfrm>
          <a:custGeom>
            <a:avLst/>
            <a:gdLst>
              <a:gd name="textAreaLeft" fmla="*/ 32040 w 2070360"/>
              <a:gd name="textAreaRight" fmla="*/ 2038320 w 2070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27" h="21600">
                <a:moveTo>
                  <a:pt x="0" y="0"/>
                </a:moveTo>
                <a:lnTo>
                  <a:pt x="90227" y="0"/>
                </a:lnTo>
                <a:lnTo>
                  <a:pt x="90227" y="21600"/>
                </a:lnTo>
                <a:lnTo>
                  <a:pt x="0" y="21600"/>
                </a:lnTo>
                <a:close/>
              </a:path>
              <a:path fill="lightenLess" w="90227" h="21600">
                <a:moveTo>
                  <a:pt x="0" y="0"/>
                </a:moveTo>
                <a:lnTo>
                  <a:pt x="90227" y="0"/>
                </a:lnTo>
                <a:lnTo>
                  <a:pt x="88828" y="1400"/>
                </a:lnTo>
                <a:lnTo>
                  <a:pt x="1400" y="1400"/>
                </a:lnTo>
                <a:close/>
              </a:path>
              <a:path fill="darken" w="90227" h="21600">
                <a:moveTo>
                  <a:pt x="90227" y="0"/>
                </a:moveTo>
                <a:lnTo>
                  <a:pt x="90227" y="21600"/>
                </a:lnTo>
                <a:lnTo>
                  <a:pt x="88828" y="20200"/>
                </a:lnTo>
                <a:lnTo>
                  <a:pt x="88828" y="1400"/>
                </a:lnTo>
                <a:close/>
              </a:path>
              <a:path fill="darkenLess" w="90227" h="21600">
                <a:moveTo>
                  <a:pt x="90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28" y="20200"/>
                </a:lnTo>
                <a:close/>
              </a:path>
              <a:path fill="lighten" w="90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546280" y="1141560"/>
            <a:ext cx="3060720" cy="5716440"/>
            <a:chOff x="2546280" y="1141560"/>
            <a:chExt cx="3060720" cy="5716440"/>
          </a:xfrm>
        </p:grpSpPr>
        <p:sp>
          <p:nvSpPr>
            <p:cNvPr id="353" name=""/>
            <p:cNvSpPr/>
            <p:nvPr/>
          </p:nvSpPr>
          <p:spPr>
            <a:xfrm>
              <a:off x="2546280" y="1141560"/>
              <a:ext cx="2295720" cy="5716440"/>
            </a:xfrm>
            <a:custGeom>
              <a:avLst/>
              <a:gdLst/>
              <a:ahLst/>
              <a:rect l="l" t="t" r="r" b="b"/>
              <a:pathLst>
                <a:path w="1446" h="3601">
                  <a:moveTo>
                    <a:pt x="0" y="3601"/>
                  </a:moveTo>
                  <a:cubicBezTo>
                    <a:pt x="42" y="3539"/>
                    <a:pt x="85" y="3478"/>
                    <a:pt x="142" y="3260"/>
                  </a:cubicBezTo>
                  <a:cubicBezTo>
                    <a:pt x="199" y="3042"/>
                    <a:pt x="260" y="2542"/>
                    <a:pt x="340" y="2296"/>
                  </a:cubicBezTo>
                  <a:cubicBezTo>
                    <a:pt x="420" y="2050"/>
                    <a:pt x="548" y="1899"/>
                    <a:pt x="624" y="1786"/>
                  </a:cubicBezTo>
                  <a:cubicBezTo>
                    <a:pt x="700" y="1673"/>
                    <a:pt x="737" y="1668"/>
                    <a:pt x="794" y="1616"/>
                  </a:cubicBezTo>
                  <a:cubicBezTo>
                    <a:pt x="851" y="1564"/>
                    <a:pt x="888" y="1583"/>
                    <a:pt x="964" y="1474"/>
                  </a:cubicBezTo>
                  <a:cubicBezTo>
                    <a:pt x="1040" y="1365"/>
                    <a:pt x="1168" y="1210"/>
                    <a:pt x="1248" y="964"/>
                  </a:cubicBezTo>
                  <a:cubicBezTo>
                    <a:pt x="1328" y="718"/>
                    <a:pt x="1413" y="161"/>
                    <a:pt x="1446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4707000" y="2131920"/>
                  <a:ext cx="90000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5" name=""/>
          <p:cNvSpPr/>
          <p:nvPr/>
        </p:nvSpPr>
        <p:spPr>
          <a:xfrm>
            <a:off x="7093080" y="1359000"/>
            <a:ext cx="1888920" cy="1305000"/>
          </a:xfrm>
          <a:custGeom>
            <a:avLst/>
            <a:gdLst>
              <a:gd name="textAreaLeft" fmla="*/ 84600 w 1888920"/>
              <a:gd name="textAreaRight" fmla="*/ 1804320 w 1888920"/>
              <a:gd name="textAreaTop" fmla="*/ 84600 h 1305000"/>
              <a:gd name="textAreaBottom" fmla="*/ 1220400 h 1305000"/>
            </a:gdLst>
            <a:ahLst/>
            <a:rect l="textAreaLeft" t="textAreaTop" r="textAreaRight" b="textAreaBottom"/>
            <a:pathLst>
              <a:path w="31262" h="21600">
                <a:moveTo>
                  <a:pt x="0" y="0"/>
                </a:moveTo>
                <a:lnTo>
                  <a:pt x="31262" y="0"/>
                </a:lnTo>
                <a:lnTo>
                  <a:pt x="31262" y="21600"/>
                </a:lnTo>
                <a:lnTo>
                  <a:pt x="0" y="21600"/>
                </a:lnTo>
                <a:close/>
              </a:path>
              <a:path fill="lightenLess" w="31262" h="21600">
                <a:moveTo>
                  <a:pt x="0" y="0"/>
                </a:moveTo>
                <a:lnTo>
                  <a:pt x="31262" y="0"/>
                </a:lnTo>
                <a:lnTo>
                  <a:pt x="29862" y="1400"/>
                </a:lnTo>
                <a:lnTo>
                  <a:pt x="1400" y="1400"/>
                </a:lnTo>
                <a:close/>
              </a:path>
              <a:path fill="darken" w="31262" h="21600">
                <a:moveTo>
                  <a:pt x="31262" y="0"/>
                </a:moveTo>
                <a:lnTo>
                  <a:pt x="31262" y="21600"/>
                </a:lnTo>
                <a:lnTo>
                  <a:pt x="29862" y="20200"/>
                </a:lnTo>
                <a:lnTo>
                  <a:pt x="29862" y="1400"/>
                </a:lnTo>
                <a:close/>
              </a:path>
              <a:path fill="darkenLess" w="31262" h="21600">
                <a:moveTo>
                  <a:pt x="31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2" y="20200"/>
                </a:lnTo>
                <a:close/>
              </a:path>
              <a:path fill="lighten" w="31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 tg x grafi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din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gent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232000" y="1224000"/>
            <a:ext cx="3149640" cy="5634000"/>
            <a:chOff x="2232000" y="1224000"/>
            <a:chExt cx="3149640" cy="5634000"/>
          </a:xfrm>
        </p:grpSpPr>
        <p:sp>
          <p:nvSpPr>
            <p:cNvPr id="357" name=""/>
            <p:cNvSpPr/>
            <p:nvPr/>
          </p:nvSpPr>
          <p:spPr>
            <a:xfrm flipH="1">
              <a:off x="2232000" y="1224000"/>
              <a:ext cx="44640" cy="5634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337000" y="1268280"/>
              <a:ext cx="44640" cy="5589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500"/>
                            </p:stCondLst>
                            <p:childTnLst>
                              <p:par>
                                <p:cTn id="8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D(tg x) = (-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; +∞) išsky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tg x) = (-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; +∞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(x)= tg x periodinė f-ja T=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lyginė f-ja tg(-x) = -t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-ja didėj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ti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k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&gt;0, k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k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Di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ausios ir mažiausios reikšmės ne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786280" y="1494000"/>
                <a:ext cx="18464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257720" y="3519360"/>
                <a:ext cx="35560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7721640" y="3789360"/>
                <a:ext cx="1170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97360" y="4194000"/>
                <a:ext cx="260964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30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6000"/>
                            </p:stCondLst>
                            <p:childTnLst>
                              <p:par>
                                <p:cTn id="8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1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70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80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8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1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9500"/>
                            </p:stCondLst>
                            <p:childTnLst>
                              <p:par>
                                <p:cTn id="8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10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Lygčių 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 x = a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Lygties sprendiniai užrašomi panaudojant bendrų sprendinių formul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rctg a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(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vz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241280" y="2664000"/>
                <a:ext cx="3060720" cy="41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3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elygyb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ių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97000" y="1042920"/>
          <a:ext cx="6210000" cy="569268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  <a:gridCol w="517320"/>
                <a:gridCol w="517680"/>
                <a:gridCol w="517320"/>
                <a:gridCol w="517680"/>
                <a:gridCol w="495360"/>
                <a:gridCol w="539640"/>
                <a:gridCol w="517680"/>
                <a:gridCol w="517320"/>
                <a:gridCol w="517680"/>
                <a:gridCol w="51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341280" y="3608280"/>
            <a:ext cx="616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02000" y="1042920"/>
            <a:ext cx="0" cy="567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3446640" y="2347920"/>
                <a:ext cx="274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056280" y="3112920"/>
                <a:ext cx="333360" cy="3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311640" y="4462560"/>
                <a:ext cx="512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467000" y="3517920"/>
                <a:ext cx="5727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797360" y="3562200"/>
                <a:ext cx="2952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237360" y="3652920"/>
                <a:ext cx="2458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492360" y="3608280"/>
                <a:ext cx="289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71280" y="3652920"/>
                <a:ext cx="47628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492360" y="1131840"/>
                <a:ext cx="405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6732720" y="2529000"/>
            <a:ext cx="1962000" cy="58572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23" h="21600">
                <a:moveTo>
                  <a:pt x="0" y="0"/>
                </a:moveTo>
                <a:lnTo>
                  <a:pt x="72323" y="0"/>
                </a:lnTo>
                <a:lnTo>
                  <a:pt x="72323" y="21600"/>
                </a:lnTo>
                <a:lnTo>
                  <a:pt x="0" y="21600"/>
                </a:lnTo>
                <a:close/>
              </a:path>
              <a:path fill="lightenLess" w="72323" h="21600">
                <a:moveTo>
                  <a:pt x="0" y="0"/>
                </a:moveTo>
                <a:lnTo>
                  <a:pt x="72323" y="0"/>
                </a:lnTo>
                <a:lnTo>
                  <a:pt x="70923" y="1400"/>
                </a:lnTo>
                <a:lnTo>
                  <a:pt x="1400" y="1400"/>
                </a:lnTo>
                <a:close/>
              </a:path>
              <a:path fill="darken" w="72323" h="21600">
                <a:moveTo>
                  <a:pt x="72323" y="0"/>
                </a:moveTo>
                <a:lnTo>
                  <a:pt x="72323" y="21600"/>
                </a:lnTo>
                <a:lnTo>
                  <a:pt x="70923" y="20200"/>
                </a:lnTo>
                <a:lnTo>
                  <a:pt x="70923" y="1400"/>
                </a:lnTo>
                <a:close/>
              </a:path>
              <a:path fill="darkenLess" w="72323" h="21600">
                <a:moveTo>
                  <a:pt x="72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23" y="20200"/>
                </a:lnTo>
                <a:close/>
              </a:path>
              <a:path fill="lighten" w="72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ėžiame grafi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t-L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g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32720" y="4059360"/>
            <a:ext cx="1962000" cy="58572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23" h="21600">
                <a:moveTo>
                  <a:pt x="0" y="0"/>
                </a:moveTo>
                <a:lnTo>
                  <a:pt x="72323" y="0"/>
                </a:lnTo>
                <a:lnTo>
                  <a:pt x="72323" y="21600"/>
                </a:lnTo>
                <a:lnTo>
                  <a:pt x="0" y="21600"/>
                </a:lnTo>
                <a:close/>
              </a:path>
              <a:path fill="lightenLess" w="72323" h="21600">
                <a:moveTo>
                  <a:pt x="0" y="0"/>
                </a:moveTo>
                <a:lnTo>
                  <a:pt x="72323" y="0"/>
                </a:lnTo>
                <a:lnTo>
                  <a:pt x="70923" y="1400"/>
                </a:lnTo>
                <a:lnTo>
                  <a:pt x="1400" y="1400"/>
                </a:lnTo>
                <a:close/>
              </a:path>
              <a:path fill="darken" w="72323" h="21600">
                <a:moveTo>
                  <a:pt x="72323" y="0"/>
                </a:moveTo>
                <a:lnTo>
                  <a:pt x="72323" y="21600"/>
                </a:lnTo>
                <a:lnTo>
                  <a:pt x="70923" y="20200"/>
                </a:lnTo>
                <a:lnTo>
                  <a:pt x="70923" y="1400"/>
                </a:lnTo>
                <a:close/>
              </a:path>
              <a:path fill="darkenLess" w="72323" h="21600">
                <a:moveTo>
                  <a:pt x="72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23" y="20200"/>
                </a:lnTo>
                <a:close/>
              </a:path>
              <a:path fill="lighten" w="72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Nustatome susiki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mo tašk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32720" y="4824360"/>
            <a:ext cx="1962000" cy="58572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23" h="21600">
                <a:moveTo>
                  <a:pt x="0" y="0"/>
                </a:moveTo>
                <a:lnTo>
                  <a:pt x="72323" y="0"/>
                </a:lnTo>
                <a:lnTo>
                  <a:pt x="72323" y="21600"/>
                </a:lnTo>
                <a:lnTo>
                  <a:pt x="0" y="21600"/>
                </a:lnTo>
                <a:close/>
              </a:path>
              <a:path fill="lightenLess" w="72323" h="21600">
                <a:moveTo>
                  <a:pt x="0" y="0"/>
                </a:moveTo>
                <a:lnTo>
                  <a:pt x="72323" y="0"/>
                </a:lnTo>
                <a:lnTo>
                  <a:pt x="70923" y="1400"/>
                </a:lnTo>
                <a:lnTo>
                  <a:pt x="1400" y="1400"/>
                </a:lnTo>
                <a:close/>
              </a:path>
              <a:path fill="darken" w="72323" h="21600">
                <a:moveTo>
                  <a:pt x="72323" y="0"/>
                </a:moveTo>
                <a:lnTo>
                  <a:pt x="72323" y="21600"/>
                </a:lnTo>
                <a:lnTo>
                  <a:pt x="70923" y="20200"/>
                </a:lnTo>
                <a:lnTo>
                  <a:pt x="70923" y="1400"/>
                </a:lnTo>
                <a:close/>
              </a:path>
              <a:path fill="darkenLess" w="72323" h="21600">
                <a:moveTo>
                  <a:pt x="72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23" y="20200"/>
                </a:lnTo>
                <a:close/>
              </a:path>
              <a:path fill="lighten" w="72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ėži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tatmen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x 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š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32720" y="5543640"/>
            <a:ext cx="1962000" cy="585720"/>
          </a:xfrm>
          <a:custGeom>
            <a:avLst/>
            <a:gdLst>
              <a:gd name="textAreaLeft" fmla="*/ 37800 w 1962000"/>
              <a:gd name="textAreaRight" fmla="*/ 1924200 w 1962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23" h="21600">
                <a:moveTo>
                  <a:pt x="0" y="0"/>
                </a:moveTo>
                <a:lnTo>
                  <a:pt x="72323" y="0"/>
                </a:lnTo>
                <a:lnTo>
                  <a:pt x="72323" y="21600"/>
                </a:lnTo>
                <a:lnTo>
                  <a:pt x="0" y="21600"/>
                </a:lnTo>
                <a:close/>
              </a:path>
              <a:path fill="lightenLess" w="72323" h="21600">
                <a:moveTo>
                  <a:pt x="0" y="0"/>
                </a:moveTo>
                <a:lnTo>
                  <a:pt x="72323" y="0"/>
                </a:lnTo>
                <a:lnTo>
                  <a:pt x="70923" y="1400"/>
                </a:lnTo>
                <a:lnTo>
                  <a:pt x="1400" y="1400"/>
                </a:lnTo>
                <a:close/>
              </a:path>
              <a:path fill="darken" w="72323" h="21600">
                <a:moveTo>
                  <a:pt x="72323" y="0"/>
                </a:moveTo>
                <a:lnTo>
                  <a:pt x="72323" y="21600"/>
                </a:lnTo>
                <a:lnTo>
                  <a:pt x="70923" y="20200"/>
                </a:lnTo>
                <a:lnTo>
                  <a:pt x="70923" y="1400"/>
                </a:lnTo>
                <a:close/>
              </a:path>
              <a:path fill="darkenLess" w="72323" h="21600">
                <a:moveTo>
                  <a:pt x="72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23" y="20200"/>
                </a:lnTo>
                <a:close/>
              </a:path>
              <a:path fill="lighten" w="72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tatome spr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inių interval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686640" y="954000"/>
                <a:ext cx="202572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732720" y="3159000"/>
            <a:ext cx="1962000" cy="765360"/>
            <a:chOff x="6732720" y="3159000"/>
            <a:chExt cx="1962000" cy="765360"/>
          </a:xfrm>
        </p:grpSpPr>
        <p:sp>
          <p:nvSpPr>
            <p:cNvPr id="393" name=""/>
            <p:cNvSpPr/>
            <p:nvPr/>
          </p:nvSpPr>
          <p:spPr>
            <a:xfrm>
              <a:off x="6732720" y="3294000"/>
              <a:ext cx="1962000" cy="585720"/>
            </a:xfrm>
            <a:custGeom>
              <a:avLst/>
              <a:gdLst>
                <a:gd name="textAreaLeft" fmla="*/ 37800 w 1962000"/>
                <a:gd name="textAreaRight" fmla="*/ 1924200 w 1962000"/>
                <a:gd name="textAreaTop" fmla="*/ 37800 h 585720"/>
                <a:gd name="textAreaBottom" fmla="*/ 547920 h 585720"/>
              </a:gdLst>
              <a:ahLst/>
              <a:rect l="textAreaLeft" t="textAreaTop" r="textAreaRight" b="textAreaBottom"/>
              <a:pathLst>
                <a:path w="72323" h="21600">
                  <a:moveTo>
                    <a:pt x="0" y="0"/>
                  </a:moveTo>
                  <a:lnTo>
                    <a:pt x="72323" y="0"/>
                  </a:lnTo>
                  <a:lnTo>
                    <a:pt x="72323" y="21600"/>
                  </a:lnTo>
                  <a:lnTo>
                    <a:pt x="0" y="21600"/>
                  </a:lnTo>
                  <a:close/>
                </a:path>
                <a:path fill="lightenLess" w="72323" h="21600">
                  <a:moveTo>
                    <a:pt x="0" y="0"/>
                  </a:moveTo>
                  <a:lnTo>
                    <a:pt x="72323" y="0"/>
                  </a:lnTo>
                  <a:lnTo>
                    <a:pt x="70923" y="1400"/>
                  </a:lnTo>
                  <a:lnTo>
                    <a:pt x="1400" y="1400"/>
                  </a:lnTo>
                  <a:close/>
                </a:path>
                <a:path fill="darken" w="72323" h="21600">
                  <a:moveTo>
                    <a:pt x="72323" y="0"/>
                  </a:moveTo>
                  <a:lnTo>
                    <a:pt x="72323" y="21600"/>
                  </a:lnTo>
                  <a:lnTo>
                    <a:pt x="70923" y="20200"/>
                  </a:lnTo>
                  <a:lnTo>
                    <a:pt x="70923" y="1400"/>
                  </a:lnTo>
                  <a:close/>
                </a:path>
                <a:path fill="darkenLess" w="72323" h="21600">
                  <a:moveTo>
                    <a:pt x="7232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0923" y="20200"/>
                  </a:lnTo>
                  <a:close/>
                </a:path>
                <a:path fill="lighten" w="7232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227720" y="3159000"/>
                  <a:ext cx="107964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5" name=""/>
          <p:cNvGrpSpPr/>
          <p:nvPr/>
        </p:nvGrpSpPr>
        <p:grpSpPr>
          <a:xfrm>
            <a:off x="2141640" y="1042920"/>
            <a:ext cx="3149640" cy="5716800"/>
            <a:chOff x="2141640" y="1042920"/>
            <a:chExt cx="3149640" cy="5716800"/>
          </a:xfrm>
        </p:grpSpPr>
        <p:sp>
          <p:nvSpPr>
            <p:cNvPr id="396" name=""/>
            <p:cNvSpPr/>
            <p:nvPr/>
          </p:nvSpPr>
          <p:spPr>
            <a:xfrm>
              <a:off x="2141640" y="1042920"/>
              <a:ext cx="2295360" cy="5716800"/>
            </a:xfrm>
            <a:custGeom>
              <a:avLst/>
              <a:gdLst/>
              <a:ahLst/>
              <a:rect l="l" t="t" r="r" b="b"/>
              <a:pathLst>
                <a:path w="1446" h="3601">
                  <a:moveTo>
                    <a:pt x="0" y="3601"/>
                  </a:moveTo>
                  <a:cubicBezTo>
                    <a:pt x="42" y="3539"/>
                    <a:pt x="85" y="3478"/>
                    <a:pt x="142" y="3260"/>
                  </a:cubicBezTo>
                  <a:cubicBezTo>
                    <a:pt x="199" y="3042"/>
                    <a:pt x="260" y="2542"/>
                    <a:pt x="340" y="2296"/>
                  </a:cubicBezTo>
                  <a:cubicBezTo>
                    <a:pt x="420" y="2050"/>
                    <a:pt x="548" y="1899"/>
                    <a:pt x="624" y="1786"/>
                  </a:cubicBezTo>
                  <a:cubicBezTo>
                    <a:pt x="700" y="1673"/>
                    <a:pt x="737" y="1668"/>
                    <a:pt x="794" y="1616"/>
                  </a:cubicBezTo>
                  <a:cubicBezTo>
                    <a:pt x="851" y="1564"/>
                    <a:pt x="888" y="1583"/>
                    <a:pt x="964" y="1474"/>
                  </a:cubicBezTo>
                  <a:cubicBezTo>
                    <a:pt x="1040" y="1365"/>
                    <a:pt x="1168" y="1210"/>
                    <a:pt x="1248" y="964"/>
                  </a:cubicBezTo>
                  <a:cubicBezTo>
                    <a:pt x="1328" y="718"/>
                    <a:pt x="1413" y="161"/>
                    <a:pt x="144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4346640" y="1763640"/>
                  <a:ext cx="94464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8" name=""/>
          <p:cNvSpPr/>
          <p:nvPr/>
        </p:nvSpPr>
        <p:spPr>
          <a:xfrm>
            <a:off x="2727360" y="4149720"/>
            <a:ext cx="225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727360" y="3519360"/>
            <a:ext cx="225360" cy="674640"/>
            <a:chOff x="2727360" y="3519360"/>
            <a:chExt cx="225360" cy="674640"/>
          </a:xfrm>
        </p:grpSpPr>
        <p:sp>
          <p:nvSpPr>
            <p:cNvPr id="400" name=""/>
            <p:cNvSpPr/>
            <p:nvPr/>
          </p:nvSpPr>
          <p:spPr>
            <a:xfrm>
              <a:off x="2727360" y="3519360"/>
              <a:ext cx="225360" cy="27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16280" y="3789360"/>
              <a:ext cx="0" cy="404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941640" y="6189840"/>
                <a:ext cx="37353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1827360" y="4464000"/>
            <a:ext cx="3463920" cy="1486080"/>
            <a:chOff x="1827360" y="4464000"/>
            <a:chExt cx="3463920" cy="1486080"/>
          </a:xfrm>
        </p:grpSpPr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3041640" y="5184720"/>
                  <a:ext cx="2249640" cy="76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tg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05" name=""/>
            <p:cNvSpPr/>
            <p:nvPr/>
          </p:nvSpPr>
          <p:spPr>
            <a:xfrm>
              <a:off x="1827360" y="4464000"/>
              <a:ext cx="9442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97000" y="4284720"/>
            <a:ext cx="6210000" cy="868320"/>
            <a:chOff x="297000" y="4284720"/>
            <a:chExt cx="6210000" cy="868320"/>
          </a:xfrm>
        </p:grpSpPr>
        <p:sp>
          <p:nvSpPr>
            <p:cNvPr id="407" name=""/>
            <p:cNvSpPr/>
            <p:nvPr/>
          </p:nvSpPr>
          <p:spPr>
            <a:xfrm>
              <a:off x="297000" y="4284720"/>
              <a:ext cx="6210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4707000" y="4419720"/>
                  <a:ext cx="103500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9" name=""/>
          <p:cNvGrpSpPr/>
          <p:nvPr/>
        </p:nvGrpSpPr>
        <p:grpSpPr>
          <a:xfrm>
            <a:off x="1827000" y="1042920"/>
            <a:ext cx="3148920" cy="5634000"/>
            <a:chOff x="1827000" y="1042920"/>
            <a:chExt cx="3148920" cy="5634000"/>
          </a:xfrm>
        </p:grpSpPr>
        <p:sp>
          <p:nvSpPr>
            <p:cNvPr id="410" name=""/>
            <p:cNvSpPr/>
            <p:nvPr/>
          </p:nvSpPr>
          <p:spPr>
            <a:xfrm flipH="1">
              <a:off x="1827000" y="1042920"/>
              <a:ext cx="44280" cy="5634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931640" y="1087200"/>
              <a:ext cx="44280" cy="5589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06280" y="954000"/>
          <a:ext cx="6210000" cy="569304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  <a:gridCol w="517320"/>
                <a:gridCol w="517680"/>
                <a:gridCol w="517320"/>
                <a:gridCol w="517680"/>
                <a:gridCol w="495360"/>
                <a:gridCol w="539640"/>
                <a:gridCol w="517680"/>
                <a:gridCol w="517320"/>
                <a:gridCol w="517680"/>
                <a:gridCol w="51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270000" y="3517920"/>
            <a:ext cx="616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330720" y="998280"/>
            <a:ext cx="0" cy="567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985000" y="3068640"/>
                <a:ext cx="333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395360" y="3473280"/>
                <a:ext cx="5731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726080" y="3517920"/>
                <a:ext cx="2952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165720" y="3608280"/>
                <a:ext cx="2462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421080" y="3564000"/>
                <a:ext cx="2890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0" y="3608280"/>
                <a:ext cx="4762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421080" y="1087560"/>
                <a:ext cx="404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2050920" y="954000"/>
            <a:ext cx="3060720" cy="5716800"/>
            <a:chOff x="2050920" y="954000"/>
            <a:chExt cx="3060720" cy="5716800"/>
          </a:xfrm>
        </p:grpSpPr>
        <p:sp>
          <p:nvSpPr>
            <p:cNvPr id="424" name=""/>
            <p:cNvSpPr/>
            <p:nvPr/>
          </p:nvSpPr>
          <p:spPr>
            <a:xfrm>
              <a:off x="2050920" y="954000"/>
              <a:ext cx="2295720" cy="5716800"/>
            </a:xfrm>
            <a:custGeom>
              <a:avLst/>
              <a:gdLst/>
              <a:ahLst/>
              <a:rect l="l" t="t" r="r" b="b"/>
              <a:pathLst>
                <a:path w="1446" h="3601">
                  <a:moveTo>
                    <a:pt x="0" y="3601"/>
                  </a:moveTo>
                  <a:cubicBezTo>
                    <a:pt x="42" y="3539"/>
                    <a:pt x="85" y="3478"/>
                    <a:pt x="142" y="3260"/>
                  </a:cubicBezTo>
                  <a:cubicBezTo>
                    <a:pt x="199" y="3042"/>
                    <a:pt x="260" y="2542"/>
                    <a:pt x="340" y="2296"/>
                  </a:cubicBezTo>
                  <a:cubicBezTo>
                    <a:pt x="420" y="2050"/>
                    <a:pt x="548" y="1899"/>
                    <a:pt x="624" y="1786"/>
                  </a:cubicBezTo>
                  <a:cubicBezTo>
                    <a:pt x="700" y="1673"/>
                    <a:pt x="737" y="1668"/>
                    <a:pt x="794" y="1616"/>
                  </a:cubicBezTo>
                  <a:cubicBezTo>
                    <a:pt x="851" y="1564"/>
                    <a:pt x="888" y="1583"/>
                    <a:pt x="964" y="1474"/>
                  </a:cubicBezTo>
                  <a:cubicBezTo>
                    <a:pt x="1040" y="1365"/>
                    <a:pt x="1168" y="1210"/>
                    <a:pt x="1248" y="964"/>
                  </a:cubicBezTo>
                  <a:cubicBezTo>
                    <a:pt x="1328" y="718"/>
                    <a:pt x="1413" y="161"/>
                    <a:pt x="144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4211640" y="1944720"/>
                  <a:ext cx="90000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222720" y="1673280"/>
                <a:ext cx="5731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402000" y="4778280"/>
                <a:ext cx="2952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8" name=""/>
          <p:cNvGrpSpPr/>
          <p:nvPr/>
        </p:nvGrpSpPr>
        <p:grpSpPr>
          <a:xfrm>
            <a:off x="206280" y="2417760"/>
            <a:ext cx="6210360" cy="2585880"/>
            <a:chOff x="206280" y="2417760"/>
            <a:chExt cx="6210360" cy="2585880"/>
          </a:xfrm>
        </p:grpSpPr>
        <p:sp>
          <p:nvSpPr>
            <p:cNvPr id="429" name=""/>
            <p:cNvSpPr/>
            <p:nvPr/>
          </p:nvSpPr>
          <p:spPr>
            <a:xfrm>
              <a:off x="206280" y="2417760"/>
              <a:ext cx="6210360" cy="2271600"/>
            </a:xfrm>
            <a:custGeom>
              <a:avLst/>
              <a:gdLst/>
              <a:ahLst/>
              <a:rect l="l" t="t" r="r" b="b"/>
              <a:pathLst>
                <a:path w="3912" h="1431">
                  <a:moveTo>
                    <a:pt x="0" y="1431"/>
                  </a:moveTo>
                  <a:cubicBezTo>
                    <a:pt x="47" y="1428"/>
                    <a:pt x="95" y="1426"/>
                    <a:pt x="312" y="1374"/>
                  </a:cubicBezTo>
                  <a:cubicBezTo>
                    <a:pt x="529" y="1322"/>
                    <a:pt x="1058" y="1204"/>
                    <a:pt x="1304" y="1119"/>
                  </a:cubicBezTo>
                  <a:cubicBezTo>
                    <a:pt x="1550" y="1034"/>
                    <a:pt x="1677" y="935"/>
                    <a:pt x="1786" y="864"/>
                  </a:cubicBezTo>
                  <a:cubicBezTo>
                    <a:pt x="1895" y="793"/>
                    <a:pt x="1899" y="746"/>
                    <a:pt x="1956" y="694"/>
                  </a:cubicBezTo>
                  <a:cubicBezTo>
                    <a:pt x="2013" y="642"/>
                    <a:pt x="2018" y="623"/>
                    <a:pt x="2126" y="552"/>
                  </a:cubicBezTo>
                  <a:cubicBezTo>
                    <a:pt x="2234" y="481"/>
                    <a:pt x="2362" y="353"/>
                    <a:pt x="2608" y="268"/>
                  </a:cubicBezTo>
                  <a:cubicBezTo>
                    <a:pt x="2854" y="183"/>
                    <a:pt x="3383" y="84"/>
                    <a:pt x="3600" y="42"/>
                  </a:cubicBezTo>
                  <a:cubicBezTo>
                    <a:pt x="3817" y="0"/>
                    <a:pt x="3860" y="18"/>
                    <a:pt x="3912" y="1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611280" y="4643280"/>
                  <a:ext cx="13492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tg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1" name=""/>
          <p:cNvSpPr/>
          <p:nvPr/>
        </p:nvSpPr>
        <p:spPr>
          <a:xfrm>
            <a:off x="6597720" y="1268280"/>
            <a:ext cx="2546280" cy="2070360"/>
          </a:xfrm>
          <a:custGeom>
            <a:avLst/>
            <a:gdLst>
              <a:gd name="textAreaLeft" fmla="*/ 133920 w 2546280"/>
              <a:gd name="textAreaRight" fmla="*/ 2412360 w 2546280"/>
              <a:gd name="textAreaTop" fmla="*/ 133920 h 2070360"/>
              <a:gd name="textAreaBottom" fmla="*/ 1936440 h 2070360"/>
            </a:gdLst>
            <a:ahLst/>
            <a:rect l="textAreaLeft" t="textAreaTop" r="textAreaRight" b="textAreaBottom"/>
            <a:pathLst>
              <a:path w="26564" h="21600">
                <a:moveTo>
                  <a:pt x="0" y="0"/>
                </a:moveTo>
                <a:lnTo>
                  <a:pt x="26564" y="0"/>
                </a:lnTo>
                <a:lnTo>
                  <a:pt x="26564" y="21600"/>
                </a:lnTo>
                <a:lnTo>
                  <a:pt x="0" y="21600"/>
                </a:lnTo>
                <a:close/>
              </a:path>
              <a:path fill="lightenLess" w="26564" h="21600">
                <a:moveTo>
                  <a:pt x="0" y="0"/>
                </a:moveTo>
                <a:lnTo>
                  <a:pt x="26564" y="0"/>
                </a:lnTo>
                <a:lnTo>
                  <a:pt x="25164" y="1400"/>
                </a:lnTo>
                <a:lnTo>
                  <a:pt x="1400" y="1400"/>
                </a:lnTo>
                <a:close/>
              </a:path>
              <a:path fill="darken" w="26564" h="21600">
                <a:moveTo>
                  <a:pt x="26564" y="0"/>
                </a:moveTo>
                <a:lnTo>
                  <a:pt x="26564" y="21600"/>
                </a:lnTo>
                <a:lnTo>
                  <a:pt x="25164" y="20200"/>
                </a:lnTo>
                <a:lnTo>
                  <a:pt x="25164" y="1400"/>
                </a:lnTo>
                <a:close/>
              </a:path>
              <a:path fill="darkenLess" w="26564" h="21600">
                <a:moveTo>
                  <a:pt x="26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4" y="20200"/>
                </a:lnTo>
                <a:close/>
              </a:path>
              <a:path fill="lighten" w="26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-jos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y =tg x atvirkštin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-ja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y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=arctg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kas gaun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tg x grafik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tvaizdavus simetrišk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iesės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x atžvilg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02360" y="5408640"/>
            <a:ext cx="2070360" cy="495360"/>
          </a:xfrm>
          <a:custGeom>
            <a:avLst/>
            <a:gdLst>
              <a:gd name="textAreaLeft" fmla="*/ 32040 w 2070360"/>
              <a:gd name="textAreaRight" fmla="*/ 2038320 w 2070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27" h="21600">
                <a:moveTo>
                  <a:pt x="0" y="0"/>
                </a:moveTo>
                <a:lnTo>
                  <a:pt x="90227" y="0"/>
                </a:lnTo>
                <a:lnTo>
                  <a:pt x="90227" y="21600"/>
                </a:lnTo>
                <a:lnTo>
                  <a:pt x="0" y="21600"/>
                </a:lnTo>
                <a:close/>
              </a:path>
              <a:path fill="lightenLess" w="90227" h="21600">
                <a:moveTo>
                  <a:pt x="0" y="0"/>
                </a:moveTo>
                <a:lnTo>
                  <a:pt x="90227" y="0"/>
                </a:lnTo>
                <a:lnTo>
                  <a:pt x="88828" y="1400"/>
                </a:lnTo>
                <a:lnTo>
                  <a:pt x="1400" y="1400"/>
                </a:lnTo>
                <a:close/>
              </a:path>
              <a:path fill="darken" w="90227" h="21600">
                <a:moveTo>
                  <a:pt x="90227" y="0"/>
                </a:moveTo>
                <a:lnTo>
                  <a:pt x="90227" y="21600"/>
                </a:lnTo>
                <a:lnTo>
                  <a:pt x="88828" y="20200"/>
                </a:lnTo>
                <a:lnTo>
                  <a:pt x="88828" y="1400"/>
                </a:lnTo>
                <a:close/>
              </a:path>
              <a:path fill="darkenLess" w="90227" h="21600">
                <a:moveTo>
                  <a:pt x="90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28" y="20200"/>
                </a:lnTo>
                <a:close/>
              </a:path>
              <a:path fill="lighten" w="90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01280" y="1089000"/>
            <a:ext cx="5269320" cy="5029200"/>
            <a:chOff x="701280" y="1089000"/>
            <a:chExt cx="5269320" cy="5029200"/>
          </a:xfrm>
        </p:grpSpPr>
        <p:sp>
          <p:nvSpPr>
            <p:cNvPr id="435" name=""/>
            <p:cNvSpPr/>
            <p:nvPr/>
          </p:nvSpPr>
          <p:spPr>
            <a:xfrm flipH="1">
              <a:off x="701280" y="1470240"/>
              <a:ext cx="4724280" cy="4647960"/>
            </a:xfrm>
            <a:prstGeom prst="line">
              <a:avLst/>
            </a:prstGeom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27000" y="108900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Jei 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a = b,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tai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b = 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D(arctg x) = (-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∞; +∞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arctg x)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lyginė f-j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c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g(-x) =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c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-ja didėjanti visoje apibrėžimo srity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g(arctg x) 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vz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3446640" y="2619360"/>
                <a:ext cx="1125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6248520" y="1523880"/>
                <a:ext cx="1447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1523880" y="5257800"/>
                <a:ext cx="2667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2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20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20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20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20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Funkcija f(x) = 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tg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3268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F (x)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=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arcctg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0984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Nelyg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9376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Lygt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09840" y="20797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Grafi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8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f(x)=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tg x grafik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97000" y="998640"/>
          <a:ext cx="6210000" cy="569268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  <a:gridCol w="517320"/>
                <a:gridCol w="517680"/>
                <a:gridCol w="517320"/>
                <a:gridCol w="517680"/>
                <a:gridCol w="517680"/>
                <a:gridCol w="517320"/>
                <a:gridCol w="517680"/>
                <a:gridCol w="517320"/>
                <a:gridCol w="517680"/>
                <a:gridCol w="51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71280" y="1042920"/>
            <a:ext cx="6435720" cy="5678640"/>
            <a:chOff x="71280" y="1042920"/>
            <a:chExt cx="6435720" cy="5678640"/>
          </a:xfrm>
        </p:grpSpPr>
        <p:sp>
          <p:nvSpPr>
            <p:cNvPr id="453" name=""/>
            <p:cNvSpPr/>
            <p:nvPr/>
          </p:nvSpPr>
          <p:spPr>
            <a:xfrm>
              <a:off x="341280" y="3562560"/>
              <a:ext cx="616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402000" y="1042920"/>
              <a:ext cx="0" cy="56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3446280" y="2347920"/>
                  <a:ext cx="2746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6056280" y="3113280"/>
                  <a:ext cx="333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3311280" y="4462560"/>
                  <a:ext cx="51300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1466640" y="3517920"/>
                  <a:ext cx="57312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4797360" y="3562560"/>
                  <a:ext cx="29520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6237000" y="3652920"/>
                  <a:ext cx="24624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3492360" y="3608640"/>
                  <a:ext cx="288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71280" y="3652920"/>
                  <a:ext cx="47628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3492360" y="1131840"/>
                  <a:ext cx="4046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4" name=""/>
          <p:cNvGrpSpPr/>
          <p:nvPr/>
        </p:nvGrpSpPr>
        <p:grpSpPr>
          <a:xfrm>
            <a:off x="2141640" y="998640"/>
            <a:ext cx="3240000" cy="5716440"/>
            <a:chOff x="2141640" y="998640"/>
            <a:chExt cx="3240000" cy="5716440"/>
          </a:xfrm>
        </p:grpSpPr>
        <p:sp>
          <p:nvSpPr>
            <p:cNvPr id="465" name=""/>
            <p:cNvSpPr/>
            <p:nvPr/>
          </p:nvSpPr>
          <p:spPr>
            <a:xfrm>
              <a:off x="2141640" y="998640"/>
              <a:ext cx="2295360" cy="5716440"/>
            </a:xfrm>
            <a:custGeom>
              <a:avLst/>
              <a:gdLst/>
              <a:ahLst/>
              <a:rect l="l" t="t" r="r" b="b"/>
              <a:pathLst>
                <a:path w="1446" h="3601">
                  <a:moveTo>
                    <a:pt x="0" y="3601"/>
                  </a:moveTo>
                  <a:cubicBezTo>
                    <a:pt x="42" y="3539"/>
                    <a:pt x="85" y="3478"/>
                    <a:pt x="142" y="3260"/>
                  </a:cubicBezTo>
                  <a:cubicBezTo>
                    <a:pt x="199" y="3042"/>
                    <a:pt x="260" y="2542"/>
                    <a:pt x="340" y="2296"/>
                  </a:cubicBezTo>
                  <a:cubicBezTo>
                    <a:pt x="420" y="2050"/>
                    <a:pt x="548" y="1899"/>
                    <a:pt x="624" y="1786"/>
                  </a:cubicBezTo>
                  <a:cubicBezTo>
                    <a:pt x="700" y="1673"/>
                    <a:pt x="737" y="1668"/>
                    <a:pt x="794" y="1616"/>
                  </a:cubicBezTo>
                  <a:cubicBezTo>
                    <a:pt x="851" y="1564"/>
                    <a:pt x="888" y="1583"/>
                    <a:pt x="964" y="1474"/>
                  </a:cubicBezTo>
                  <a:cubicBezTo>
                    <a:pt x="1040" y="1365"/>
                    <a:pt x="1168" y="1210"/>
                    <a:pt x="1248" y="964"/>
                  </a:cubicBezTo>
                  <a:cubicBezTo>
                    <a:pt x="1328" y="718"/>
                    <a:pt x="1413" y="161"/>
                    <a:pt x="1446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4481640" y="1628640"/>
                  <a:ext cx="90000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7" name=""/>
          <p:cNvSpPr/>
          <p:nvPr/>
        </p:nvSpPr>
        <p:spPr>
          <a:xfrm>
            <a:off x="611280" y="954000"/>
            <a:ext cx="2295360" cy="5716800"/>
          </a:xfrm>
          <a:custGeom>
            <a:avLst/>
            <a:gdLst/>
            <a:ahLst/>
            <a:rect l="l" t="t" r="r" b="b"/>
            <a:pathLst>
              <a:path w="1446" h="3601">
                <a:moveTo>
                  <a:pt x="0" y="3601"/>
                </a:moveTo>
                <a:cubicBezTo>
                  <a:pt x="42" y="3539"/>
                  <a:pt x="85" y="3478"/>
                  <a:pt x="142" y="3260"/>
                </a:cubicBezTo>
                <a:cubicBezTo>
                  <a:pt x="199" y="3042"/>
                  <a:pt x="260" y="2542"/>
                  <a:pt x="340" y="2296"/>
                </a:cubicBezTo>
                <a:cubicBezTo>
                  <a:pt x="420" y="2050"/>
                  <a:pt x="548" y="1899"/>
                  <a:pt x="624" y="1786"/>
                </a:cubicBezTo>
                <a:cubicBezTo>
                  <a:pt x="700" y="1673"/>
                  <a:pt x="737" y="1668"/>
                  <a:pt x="794" y="1616"/>
                </a:cubicBezTo>
                <a:cubicBezTo>
                  <a:pt x="851" y="1564"/>
                  <a:pt x="888" y="1583"/>
                  <a:pt x="964" y="1474"/>
                </a:cubicBezTo>
                <a:cubicBezTo>
                  <a:pt x="1040" y="1365"/>
                  <a:pt x="1168" y="1210"/>
                  <a:pt x="1248" y="964"/>
                </a:cubicBezTo>
                <a:cubicBezTo>
                  <a:pt x="1328" y="718"/>
                  <a:pt x="1413" y="161"/>
                  <a:pt x="1446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686640" y="3968640"/>
                <a:ext cx="2295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32720" y="5184720"/>
            <a:ext cx="2070000" cy="495360"/>
          </a:xfrm>
          <a:custGeom>
            <a:avLst/>
            <a:gdLst>
              <a:gd name="textAreaLeft" fmla="*/ 32040 w 2070000"/>
              <a:gd name="textAreaRight" fmla="*/ 2037960 w 207000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12" h="21600">
                <a:moveTo>
                  <a:pt x="0" y="0"/>
                </a:moveTo>
                <a:lnTo>
                  <a:pt x="90212" y="0"/>
                </a:lnTo>
                <a:lnTo>
                  <a:pt x="90212" y="21600"/>
                </a:lnTo>
                <a:lnTo>
                  <a:pt x="0" y="21600"/>
                </a:lnTo>
                <a:close/>
              </a:path>
              <a:path fill="lightenLess" w="90212" h="21600">
                <a:moveTo>
                  <a:pt x="0" y="0"/>
                </a:moveTo>
                <a:lnTo>
                  <a:pt x="90212" y="0"/>
                </a:lnTo>
                <a:lnTo>
                  <a:pt x="88812" y="1400"/>
                </a:lnTo>
                <a:lnTo>
                  <a:pt x="1400" y="1400"/>
                </a:lnTo>
                <a:close/>
              </a:path>
              <a:path fill="darken" w="90212" h="21600">
                <a:moveTo>
                  <a:pt x="90212" y="0"/>
                </a:moveTo>
                <a:lnTo>
                  <a:pt x="90212" y="21600"/>
                </a:lnTo>
                <a:lnTo>
                  <a:pt x="88812" y="20200"/>
                </a:lnTo>
                <a:lnTo>
                  <a:pt x="88812" y="1400"/>
                </a:lnTo>
                <a:close/>
              </a:path>
              <a:path fill="darkenLess" w="90212" h="21600">
                <a:moveTo>
                  <a:pt x="90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12" y="20200"/>
                </a:lnTo>
                <a:close/>
              </a:path>
              <a:path fill="lighten" w="90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727000" y="2394000"/>
            <a:ext cx="135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15920" y="2033640"/>
            <a:ext cx="135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906280" y="1628640"/>
            <a:ext cx="135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836640" y="998640"/>
            <a:ext cx="1979640" cy="5626080"/>
            <a:chOff x="836640" y="998640"/>
            <a:chExt cx="1979640" cy="5626080"/>
          </a:xfrm>
        </p:grpSpPr>
        <mc:AlternateContent>
          <mc:Choice xmlns:a14="http://schemas.microsoft.com/office/drawing/2010/main" Requires="a14">
            <p:sp>
              <p:nvSpPr>
                <p:cNvPr id="476" name=""/>
                <p:cNvSpPr txBox="1"/>
                <p:nvPr/>
              </p:nvSpPr>
              <p:spPr>
                <a:xfrm>
                  <a:off x="1150920" y="2124000"/>
                  <a:ext cx="9889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tg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7" name=""/>
            <p:cNvSpPr/>
            <p:nvPr/>
          </p:nvSpPr>
          <p:spPr>
            <a:xfrm>
              <a:off x="836640" y="998640"/>
              <a:ext cx="1979640" cy="5626080"/>
            </a:xfrm>
            <a:custGeom>
              <a:avLst/>
              <a:gdLst/>
              <a:ahLst/>
              <a:rect l="l" t="t" r="r" b="b"/>
              <a:pathLst>
                <a:path w="1247" h="3544">
                  <a:moveTo>
                    <a:pt x="0" y="0"/>
                  </a:moveTo>
                  <a:cubicBezTo>
                    <a:pt x="101" y="448"/>
                    <a:pt x="203" y="897"/>
                    <a:pt x="312" y="1162"/>
                  </a:cubicBezTo>
                  <a:cubicBezTo>
                    <a:pt x="421" y="1427"/>
                    <a:pt x="529" y="1423"/>
                    <a:pt x="652" y="1588"/>
                  </a:cubicBezTo>
                  <a:cubicBezTo>
                    <a:pt x="775" y="1753"/>
                    <a:pt x="950" y="1829"/>
                    <a:pt x="1049" y="2155"/>
                  </a:cubicBezTo>
                  <a:cubicBezTo>
                    <a:pt x="1148" y="2481"/>
                    <a:pt x="1197" y="3012"/>
                    <a:pt x="1247" y="354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686640" y="954000"/>
            <a:ext cx="2205000" cy="989280"/>
          </a:xfrm>
          <a:custGeom>
            <a:avLst/>
            <a:gdLst>
              <a:gd name="textAreaLeft" fmla="*/ 64080 w 2205000"/>
              <a:gd name="textAreaRight" fmla="*/ 2140920 w 2205000"/>
              <a:gd name="textAreaTop" fmla="*/ 64080 h 989280"/>
              <a:gd name="textAreaBottom" fmla="*/ 925200 h 989280"/>
            </a:gdLst>
            <a:ahLst/>
            <a:rect l="textAreaLeft" t="textAreaTop" r="textAreaRight" b="textAreaBottom"/>
            <a:pathLst>
              <a:path w="48134" h="21600">
                <a:moveTo>
                  <a:pt x="0" y="0"/>
                </a:moveTo>
                <a:lnTo>
                  <a:pt x="48134" y="0"/>
                </a:lnTo>
                <a:lnTo>
                  <a:pt x="48134" y="21600"/>
                </a:lnTo>
                <a:lnTo>
                  <a:pt x="0" y="21600"/>
                </a:lnTo>
                <a:close/>
              </a:path>
              <a:path fill="lightenLess" w="48134" h="21600">
                <a:moveTo>
                  <a:pt x="0" y="0"/>
                </a:moveTo>
                <a:lnTo>
                  <a:pt x="48134" y="0"/>
                </a:lnTo>
                <a:lnTo>
                  <a:pt x="46735" y="1400"/>
                </a:lnTo>
                <a:lnTo>
                  <a:pt x="1400" y="1400"/>
                </a:lnTo>
                <a:close/>
              </a:path>
              <a:path fill="darken" w="48134" h="21600">
                <a:moveTo>
                  <a:pt x="48134" y="0"/>
                </a:moveTo>
                <a:lnTo>
                  <a:pt x="48134" y="21600"/>
                </a:lnTo>
                <a:lnTo>
                  <a:pt x="46735" y="20200"/>
                </a:lnTo>
                <a:lnTo>
                  <a:pt x="46735" y="1400"/>
                </a:lnTo>
                <a:close/>
              </a:path>
              <a:path fill="darkenLess" w="48134" h="21600">
                <a:moveTo>
                  <a:pt x="48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35" y="20200"/>
                </a:lnTo>
                <a:close/>
              </a:path>
              <a:path fill="lighten" w="48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 ctg x grafi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din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tangent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42000" y="2124000"/>
            <a:ext cx="2340000" cy="1844640"/>
          </a:xfrm>
          <a:custGeom>
            <a:avLst/>
            <a:gdLst>
              <a:gd name="textAreaLeft" fmla="*/ 119520 w 2340000"/>
              <a:gd name="textAreaRight" fmla="*/ 2220480 w 2340000"/>
              <a:gd name="textAreaTop" fmla="*/ 119520 h 1844640"/>
              <a:gd name="textAreaBottom" fmla="*/ 1725120 h 1844640"/>
            </a:gdLst>
            <a:ahLst/>
            <a:rect l="textAreaLeft" t="textAreaTop" r="textAreaRight" b="textAreaBottom"/>
            <a:pathLst>
              <a:path w="27399" h="21600">
                <a:moveTo>
                  <a:pt x="0" y="0"/>
                </a:moveTo>
                <a:lnTo>
                  <a:pt x="27399" y="0"/>
                </a:lnTo>
                <a:lnTo>
                  <a:pt x="27399" y="21600"/>
                </a:lnTo>
                <a:lnTo>
                  <a:pt x="0" y="21600"/>
                </a:lnTo>
                <a:close/>
              </a:path>
              <a:path fill="lightenLess" w="27399" h="21600">
                <a:moveTo>
                  <a:pt x="0" y="0"/>
                </a:moveTo>
                <a:lnTo>
                  <a:pt x="27399" y="0"/>
                </a:lnTo>
                <a:lnTo>
                  <a:pt x="25999" y="1400"/>
                </a:lnTo>
                <a:lnTo>
                  <a:pt x="1400" y="1400"/>
                </a:lnTo>
                <a:close/>
              </a:path>
              <a:path fill="darken" w="27399" h="21600">
                <a:moveTo>
                  <a:pt x="27399" y="0"/>
                </a:moveTo>
                <a:lnTo>
                  <a:pt x="27399" y="21600"/>
                </a:lnTo>
                <a:lnTo>
                  <a:pt x="25999" y="20200"/>
                </a:lnTo>
                <a:lnTo>
                  <a:pt x="25999" y="1400"/>
                </a:lnTo>
                <a:close/>
              </a:path>
              <a:path fill="darkenLess" w="27399" h="21600">
                <a:moveTo>
                  <a:pt x="27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9" y="20200"/>
                </a:lnTo>
                <a:close/>
              </a:path>
              <a:path fill="lighten" w="27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unamas f-jos y= tg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k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stūmus 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šimi į kairę pusę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vienetų ir atvaizdav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metriškai Ox aš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tžvilgiu,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8847000" y="2664000"/>
            <a:ext cx="225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D(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tg x) = (-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∞; +∞) išskyrus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, 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tg x) = (-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∞; +∞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(x)=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g x periodinė f-ja T=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lyginė f-ja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g(-x) = -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-ja mažėjanti, kai 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; 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), 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є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tg x&gt;0, k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tg x&lt;0, k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   Didžiausios ir mažiausios reikšmės ne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276720" y="4191120"/>
                <a:ext cx="3274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10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10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10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10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Lygčių 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1" i="1" sz="4400" spc="-1" strike="noStrike">
                <a:solidFill>
                  <a:srgbClr val="000000"/>
                </a:solidFill>
                <a:latin typeface="Arial"/>
              </a:rPr>
              <a:t> x = a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Lygties sprendiniai užrašomi panaudojan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ndrų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prendinių formulę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X = arc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tg a +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n, n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єZ (aє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vz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332000" y="2754360"/>
                <a:ext cx="3066840" cy="37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ctg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2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Funkcija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= s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1640" y="20797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Grafi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1164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Nelyg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7360" y="3652920"/>
            <a:ext cx="2565360" cy="112536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49230" h="21600">
                <a:moveTo>
                  <a:pt x="0" y="0"/>
                </a:moveTo>
                <a:lnTo>
                  <a:pt x="49230" y="0"/>
                </a:lnTo>
                <a:lnTo>
                  <a:pt x="49230" y="21600"/>
                </a:lnTo>
                <a:lnTo>
                  <a:pt x="0" y="21600"/>
                </a:lnTo>
                <a:close/>
              </a:path>
              <a:path fill="lightenLess" w="49230" h="21600">
                <a:moveTo>
                  <a:pt x="0" y="0"/>
                </a:moveTo>
                <a:lnTo>
                  <a:pt x="49230" y="0"/>
                </a:lnTo>
                <a:lnTo>
                  <a:pt x="47830" y="1400"/>
                </a:lnTo>
                <a:lnTo>
                  <a:pt x="1400" y="1400"/>
                </a:lnTo>
                <a:close/>
              </a:path>
              <a:path fill="darken" w="49230" h="21600">
                <a:moveTo>
                  <a:pt x="49230" y="0"/>
                </a:moveTo>
                <a:lnTo>
                  <a:pt x="49230" y="21600"/>
                </a:lnTo>
                <a:lnTo>
                  <a:pt x="47830" y="20200"/>
                </a:lnTo>
                <a:lnTo>
                  <a:pt x="47830" y="1400"/>
                </a:lnTo>
                <a:close/>
              </a:path>
              <a:path fill="darkenLess" w="49230" h="21600">
                <a:moveTo>
                  <a:pt x="49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30" y="20200"/>
                </a:lnTo>
                <a:close/>
              </a:path>
              <a:path fill="lighten" w="49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F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lt-LT" sz="1800" spc="-1" strike="noStrike" u="sng">
                <a:solidFill>
                  <a:srgbClr val="009999"/>
                </a:solidFill>
                <a:uFillTx/>
                <a:latin typeface="Arial"/>
              </a:rPr>
              <a:t>(x)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=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arcsin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000" y="3654360"/>
            <a:ext cx="2565360" cy="1125720"/>
          </a:xfrm>
          <a:custGeom>
            <a:avLst/>
            <a:gdLst>
              <a:gd name="textAreaLeft" fmla="*/ 72720 w 2565360"/>
              <a:gd name="textAreaRight" fmla="*/ 2492640 w 256536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49215" h="21600">
                <a:moveTo>
                  <a:pt x="0" y="0"/>
                </a:moveTo>
                <a:lnTo>
                  <a:pt x="49215" y="0"/>
                </a:lnTo>
                <a:lnTo>
                  <a:pt x="49215" y="21600"/>
                </a:lnTo>
                <a:lnTo>
                  <a:pt x="0" y="21600"/>
                </a:lnTo>
                <a:close/>
              </a:path>
              <a:path fill="lightenLess" w="49215" h="21600">
                <a:moveTo>
                  <a:pt x="0" y="0"/>
                </a:moveTo>
                <a:lnTo>
                  <a:pt x="49215" y="0"/>
                </a:lnTo>
                <a:lnTo>
                  <a:pt x="47815" y="1400"/>
                </a:lnTo>
                <a:lnTo>
                  <a:pt x="1400" y="1400"/>
                </a:lnTo>
                <a:close/>
              </a:path>
              <a:path fill="darken" w="49215" h="21600">
                <a:moveTo>
                  <a:pt x="49215" y="0"/>
                </a:moveTo>
                <a:lnTo>
                  <a:pt x="49215" y="21600"/>
                </a:lnTo>
                <a:lnTo>
                  <a:pt x="47815" y="20200"/>
                </a:lnTo>
                <a:lnTo>
                  <a:pt x="47815" y="1400"/>
                </a:lnTo>
                <a:close/>
              </a:path>
              <a:path fill="darkenLess" w="49215" h="21600">
                <a:moveTo>
                  <a:pt x="49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15" y="20200"/>
                </a:lnTo>
                <a:close/>
              </a:path>
              <a:path fill="lighten" w="49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Lygt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8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814536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elygyb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ių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250920" y="907920"/>
          <a:ext cx="6210360" cy="569304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  <a:gridCol w="517320"/>
                <a:gridCol w="519120"/>
                <a:gridCol w="516240"/>
                <a:gridCol w="517320"/>
                <a:gridCol w="453960"/>
                <a:gridCol w="581040"/>
                <a:gridCol w="517680"/>
                <a:gridCol w="517320"/>
                <a:gridCol w="517680"/>
                <a:gridCol w="51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2" name=""/>
          <p:cNvGrpSpPr/>
          <p:nvPr/>
        </p:nvGrpSpPr>
        <p:grpSpPr>
          <a:xfrm>
            <a:off x="0" y="954000"/>
            <a:ext cx="6435720" cy="5678640"/>
            <a:chOff x="0" y="954000"/>
            <a:chExt cx="6435720" cy="5678640"/>
          </a:xfrm>
        </p:grpSpPr>
        <p:sp>
          <p:nvSpPr>
            <p:cNvPr id="493" name=""/>
            <p:cNvSpPr/>
            <p:nvPr/>
          </p:nvSpPr>
          <p:spPr>
            <a:xfrm>
              <a:off x="270000" y="3473640"/>
              <a:ext cx="616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330720" y="954000"/>
              <a:ext cx="0" cy="56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3375000" y="2259000"/>
                  <a:ext cx="2746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"/>
                <p:cNvSpPr txBox="1"/>
                <p:nvPr/>
              </p:nvSpPr>
              <p:spPr>
                <a:xfrm>
                  <a:off x="5985000" y="3024360"/>
                  <a:ext cx="333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3240000" y="4373640"/>
                  <a:ext cx="51300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395360" y="3429000"/>
                  <a:ext cx="57312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4726080" y="3473640"/>
                  <a:ext cx="29520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165720" y="3564000"/>
                  <a:ext cx="24624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3421080" y="3519720"/>
                  <a:ext cx="288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0" y="3564000"/>
                  <a:ext cx="47628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3421080" y="1042920"/>
                  <a:ext cx="4046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4" name=""/>
          <p:cNvGrpSpPr/>
          <p:nvPr/>
        </p:nvGrpSpPr>
        <p:grpSpPr>
          <a:xfrm>
            <a:off x="250920" y="2438280"/>
            <a:ext cx="6211800" cy="405000"/>
            <a:chOff x="250920" y="2438280"/>
            <a:chExt cx="6211800" cy="405000"/>
          </a:xfrm>
        </p:grpSpPr>
        <p:sp>
          <p:nvSpPr>
            <p:cNvPr id="505" name=""/>
            <p:cNvSpPr/>
            <p:nvPr/>
          </p:nvSpPr>
          <p:spPr>
            <a:xfrm>
              <a:off x="250920" y="2438280"/>
              <a:ext cx="6211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6" name=""/>
                <p:cNvSpPr txBox="1"/>
                <p:nvPr/>
              </p:nvSpPr>
              <p:spPr>
                <a:xfrm>
                  <a:off x="5292720" y="2438280"/>
                  <a:ext cx="67644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7" name=""/>
          <p:cNvGrpSpPr/>
          <p:nvPr/>
        </p:nvGrpSpPr>
        <p:grpSpPr>
          <a:xfrm>
            <a:off x="3897360" y="907920"/>
            <a:ext cx="2293920" cy="5670720"/>
            <a:chOff x="3897360" y="907920"/>
            <a:chExt cx="2293920" cy="5670720"/>
          </a:xfrm>
        </p:grpSpPr>
        <p:sp>
          <p:nvSpPr>
            <p:cNvPr id="508" name=""/>
            <p:cNvSpPr/>
            <p:nvPr/>
          </p:nvSpPr>
          <p:spPr>
            <a:xfrm>
              <a:off x="3897360" y="907920"/>
              <a:ext cx="2293920" cy="5670720"/>
            </a:xfrm>
            <a:custGeom>
              <a:avLst/>
              <a:gdLst/>
              <a:ahLst/>
              <a:rect l="l" t="t" r="r" b="b"/>
              <a:pathLst>
                <a:path w="1445" h="3572">
                  <a:moveTo>
                    <a:pt x="1445" y="3572"/>
                  </a:moveTo>
                  <a:cubicBezTo>
                    <a:pt x="1400" y="3524"/>
                    <a:pt x="1356" y="3477"/>
                    <a:pt x="1304" y="3260"/>
                  </a:cubicBezTo>
                  <a:cubicBezTo>
                    <a:pt x="1252" y="3043"/>
                    <a:pt x="1243" y="2542"/>
                    <a:pt x="1134" y="2268"/>
                  </a:cubicBezTo>
                  <a:cubicBezTo>
                    <a:pt x="1025" y="1994"/>
                    <a:pt x="803" y="1829"/>
                    <a:pt x="652" y="1616"/>
                  </a:cubicBezTo>
                  <a:cubicBezTo>
                    <a:pt x="501" y="1403"/>
                    <a:pt x="335" y="1261"/>
                    <a:pt x="226" y="992"/>
                  </a:cubicBezTo>
                  <a:cubicBezTo>
                    <a:pt x="117" y="723"/>
                    <a:pt x="58" y="361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4076640" y="1359000"/>
                  <a:ext cx="121464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tg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093080" y="1042920"/>
                <a:ext cx="1035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4122720" y="2349360"/>
            <a:ext cx="225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42000" y="2124000"/>
            <a:ext cx="1962360" cy="585720"/>
          </a:xfrm>
          <a:custGeom>
            <a:avLst/>
            <a:gdLst>
              <a:gd name="textAreaLeft" fmla="*/ 37800 w 1962360"/>
              <a:gd name="textAreaRight" fmla="*/ 1924560 w 1962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36" h="21600">
                <a:moveTo>
                  <a:pt x="0" y="0"/>
                </a:moveTo>
                <a:lnTo>
                  <a:pt x="72336" y="0"/>
                </a:lnTo>
                <a:lnTo>
                  <a:pt x="72336" y="21600"/>
                </a:lnTo>
                <a:lnTo>
                  <a:pt x="0" y="21600"/>
                </a:lnTo>
                <a:close/>
              </a:path>
              <a:path fill="lightenLess" w="72336" h="21600">
                <a:moveTo>
                  <a:pt x="0" y="0"/>
                </a:moveTo>
                <a:lnTo>
                  <a:pt x="72336" y="0"/>
                </a:lnTo>
                <a:lnTo>
                  <a:pt x="70936" y="1400"/>
                </a:lnTo>
                <a:lnTo>
                  <a:pt x="1400" y="1400"/>
                </a:lnTo>
                <a:close/>
              </a:path>
              <a:path fill="darken" w="72336" h="21600">
                <a:moveTo>
                  <a:pt x="72336" y="0"/>
                </a:moveTo>
                <a:lnTo>
                  <a:pt x="72336" y="21600"/>
                </a:lnTo>
                <a:lnTo>
                  <a:pt x="70936" y="20200"/>
                </a:lnTo>
                <a:lnTo>
                  <a:pt x="70936" y="1400"/>
                </a:lnTo>
                <a:close/>
              </a:path>
              <a:path fill="darkenLess" w="72336" h="21600">
                <a:moveTo>
                  <a:pt x="72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36" y="20200"/>
                </a:lnTo>
                <a:close/>
              </a:path>
              <a:path fill="lighten" w="72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ėžiame grafi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t-L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42000" y="2933640"/>
            <a:ext cx="1962360" cy="585720"/>
          </a:xfrm>
          <a:custGeom>
            <a:avLst/>
            <a:gdLst>
              <a:gd name="textAreaLeft" fmla="*/ 37800 w 1962360"/>
              <a:gd name="textAreaRight" fmla="*/ 1924560 w 1962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36" h="21600">
                <a:moveTo>
                  <a:pt x="0" y="0"/>
                </a:moveTo>
                <a:lnTo>
                  <a:pt x="72336" y="0"/>
                </a:lnTo>
                <a:lnTo>
                  <a:pt x="72336" y="21600"/>
                </a:lnTo>
                <a:lnTo>
                  <a:pt x="0" y="21600"/>
                </a:lnTo>
                <a:close/>
              </a:path>
              <a:path fill="lightenLess" w="72336" h="21600">
                <a:moveTo>
                  <a:pt x="0" y="0"/>
                </a:moveTo>
                <a:lnTo>
                  <a:pt x="72336" y="0"/>
                </a:lnTo>
                <a:lnTo>
                  <a:pt x="70936" y="1400"/>
                </a:lnTo>
                <a:lnTo>
                  <a:pt x="1400" y="1400"/>
                </a:lnTo>
                <a:close/>
              </a:path>
              <a:path fill="darken" w="72336" h="21600">
                <a:moveTo>
                  <a:pt x="72336" y="0"/>
                </a:moveTo>
                <a:lnTo>
                  <a:pt x="72336" y="21600"/>
                </a:lnTo>
                <a:lnTo>
                  <a:pt x="70936" y="20200"/>
                </a:lnTo>
                <a:lnTo>
                  <a:pt x="70936" y="1400"/>
                </a:lnTo>
                <a:close/>
              </a:path>
              <a:path fill="darkenLess" w="72336" h="21600">
                <a:moveTo>
                  <a:pt x="72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36" y="20200"/>
                </a:lnTo>
                <a:close/>
              </a:path>
              <a:path fill="lighten" w="72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t-L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642000" y="3743280"/>
            <a:ext cx="1962360" cy="585720"/>
          </a:xfrm>
          <a:custGeom>
            <a:avLst/>
            <a:gdLst>
              <a:gd name="textAreaLeft" fmla="*/ 37800 w 1962360"/>
              <a:gd name="textAreaRight" fmla="*/ 1924560 w 1962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36" h="21600">
                <a:moveTo>
                  <a:pt x="0" y="0"/>
                </a:moveTo>
                <a:lnTo>
                  <a:pt x="72336" y="0"/>
                </a:lnTo>
                <a:lnTo>
                  <a:pt x="72336" y="21600"/>
                </a:lnTo>
                <a:lnTo>
                  <a:pt x="0" y="21600"/>
                </a:lnTo>
                <a:close/>
              </a:path>
              <a:path fill="lightenLess" w="72336" h="21600">
                <a:moveTo>
                  <a:pt x="0" y="0"/>
                </a:moveTo>
                <a:lnTo>
                  <a:pt x="72336" y="0"/>
                </a:lnTo>
                <a:lnTo>
                  <a:pt x="70936" y="1400"/>
                </a:lnTo>
                <a:lnTo>
                  <a:pt x="1400" y="1400"/>
                </a:lnTo>
                <a:close/>
              </a:path>
              <a:path fill="darken" w="72336" h="21600">
                <a:moveTo>
                  <a:pt x="72336" y="0"/>
                </a:moveTo>
                <a:lnTo>
                  <a:pt x="72336" y="21600"/>
                </a:lnTo>
                <a:lnTo>
                  <a:pt x="70936" y="20200"/>
                </a:lnTo>
                <a:lnTo>
                  <a:pt x="70936" y="1400"/>
                </a:lnTo>
                <a:close/>
              </a:path>
              <a:path fill="darkenLess" w="72336" h="21600">
                <a:moveTo>
                  <a:pt x="72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36" y="20200"/>
                </a:lnTo>
                <a:close/>
              </a:path>
              <a:path fill="lighten" w="72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Nustatome susiki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mo tašk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642000" y="4508640"/>
            <a:ext cx="1962360" cy="585720"/>
          </a:xfrm>
          <a:custGeom>
            <a:avLst/>
            <a:gdLst>
              <a:gd name="textAreaLeft" fmla="*/ 37800 w 1962360"/>
              <a:gd name="textAreaRight" fmla="*/ 1924560 w 1962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36" h="21600">
                <a:moveTo>
                  <a:pt x="0" y="0"/>
                </a:moveTo>
                <a:lnTo>
                  <a:pt x="72336" y="0"/>
                </a:lnTo>
                <a:lnTo>
                  <a:pt x="72336" y="21600"/>
                </a:lnTo>
                <a:lnTo>
                  <a:pt x="0" y="21600"/>
                </a:lnTo>
                <a:close/>
              </a:path>
              <a:path fill="lightenLess" w="72336" h="21600">
                <a:moveTo>
                  <a:pt x="0" y="0"/>
                </a:moveTo>
                <a:lnTo>
                  <a:pt x="72336" y="0"/>
                </a:lnTo>
                <a:lnTo>
                  <a:pt x="70936" y="1400"/>
                </a:lnTo>
                <a:lnTo>
                  <a:pt x="1400" y="1400"/>
                </a:lnTo>
                <a:close/>
              </a:path>
              <a:path fill="darken" w="72336" h="21600">
                <a:moveTo>
                  <a:pt x="72336" y="0"/>
                </a:moveTo>
                <a:lnTo>
                  <a:pt x="72336" y="21600"/>
                </a:lnTo>
                <a:lnTo>
                  <a:pt x="70936" y="20200"/>
                </a:lnTo>
                <a:lnTo>
                  <a:pt x="70936" y="1400"/>
                </a:lnTo>
                <a:close/>
              </a:path>
              <a:path fill="darkenLess" w="72336" h="21600">
                <a:moveTo>
                  <a:pt x="72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36" y="20200"/>
                </a:lnTo>
                <a:close/>
              </a:path>
              <a:path fill="lighten" w="72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ėži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tatmen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x 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š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42000" y="5273640"/>
            <a:ext cx="1962360" cy="585720"/>
          </a:xfrm>
          <a:custGeom>
            <a:avLst/>
            <a:gdLst>
              <a:gd name="textAreaLeft" fmla="*/ 37800 w 1962360"/>
              <a:gd name="textAreaRight" fmla="*/ 1924560 w 1962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72336" h="21600">
                <a:moveTo>
                  <a:pt x="0" y="0"/>
                </a:moveTo>
                <a:lnTo>
                  <a:pt x="72336" y="0"/>
                </a:lnTo>
                <a:lnTo>
                  <a:pt x="72336" y="21600"/>
                </a:lnTo>
                <a:lnTo>
                  <a:pt x="0" y="21600"/>
                </a:lnTo>
                <a:close/>
              </a:path>
              <a:path fill="lightenLess" w="72336" h="21600">
                <a:moveTo>
                  <a:pt x="0" y="0"/>
                </a:moveTo>
                <a:lnTo>
                  <a:pt x="72336" y="0"/>
                </a:lnTo>
                <a:lnTo>
                  <a:pt x="70936" y="1400"/>
                </a:lnTo>
                <a:lnTo>
                  <a:pt x="1400" y="1400"/>
                </a:lnTo>
                <a:close/>
              </a:path>
              <a:path fill="darken" w="72336" h="21600">
                <a:moveTo>
                  <a:pt x="72336" y="0"/>
                </a:moveTo>
                <a:lnTo>
                  <a:pt x="72336" y="21600"/>
                </a:lnTo>
                <a:lnTo>
                  <a:pt x="70936" y="20200"/>
                </a:lnTo>
                <a:lnTo>
                  <a:pt x="70936" y="1400"/>
                </a:lnTo>
                <a:close/>
              </a:path>
              <a:path fill="darkenLess" w="72336" h="21600">
                <a:moveTo>
                  <a:pt x="72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36" y="20200"/>
                </a:lnTo>
                <a:close/>
              </a:path>
              <a:path fill="lighten" w="72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tatome spr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inių interval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62360" y="5904000"/>
                <a:ext cx="3465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;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3792600" y="3657600"/>
            <a:ext cx="2600280" cy="1393920"/>
            <a:chOff x="3792600" y="3657600"/>
            <a:chExt cx="2600280" cy="1393920"/>
          </a:xfrm>
        </p:grpSpPr>
        <p:sp>
          <p:nvSpPr>
            <p:cNvPr id="521" name=""/>
            <p:cNvSpPr/>
            <p:nvPr/>
          </p:nvSpPr>
          <p:spPr>
            <a:xfrm>
              <a:off x="4232160" y="3657600"/>
              <a:ext cx="216072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3792600" y="4332240"/>
                  <a:ext cx="191592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ctg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3" name=""/>
          <p:cNvSpPr/>
          <p:nvPr/>
        </p:nvSpPr>
        <p:spPr>
          <a:xfrm>
            <a:off x="6372360" y="954000"/>
            <a:ext cx="0" cy="5624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525" name=""/>
          <p:cNvGrpSpPr/>
          <p:nvPr/>
        </p:nvGrpSpPr>
        <p:grpSpPr>
          <a:xfrm>
            <a:off x="3986280" y="2664000"/>
            <a:ext cx="412560" cy="1485720"/>
            <a:chOff x="3986280" y="2664000"/>
            <a:chExt cx="412560" cy="1485720"/>
          </a:xfrm>
        </p:grpSpPr>
        <p:grpSp>
          <p:nvGrpSpPr>
            <p:cNvPr id="526" name=""/>
            <p:cNvGrpSpPr/>
            <p:nvPr/>
          </p:nvGrpSpPr>
          <p:grpSpPr>
            <a:xfrm>
              <a:off x="4122720" y="2664000"/>
              <a:ext cx="225360" cy="944280"/>
              <a:chOff x="4122720" y="2664000"/>
              <a:chExt cx="225360" cy="944280"/>
            </a:xfrm>
          </p:grpSpPr>
          <p:sp>
            <p:nvSpPr>
              <p:cNvPr id="527" name=""/>
              <p:cNvSpPr/>
              <p:nvPr/>
            </p:nvSpPr>
            <p:spPr>
              <a:xfrm>
                <a:off x="4122720" y="3338640"/>
                <a:ext cx="225360" cy="269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11640" y="2664000"/>
                <a:ext cx="0" cy="67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3986280" y="3654360"/>
                  <a:ext cx="4125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22360" y="-12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c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06280" y="863640"/>
          <a:ext cx="6210000" cy="5692680"/>
        </p:xfrm>
        <a:graphic>
          <a:graphicData uri="http://schemas.openxmlformats.org/drawingml/2006/table">
            <a:tbl>
              <a:tblPr/>
              <a:tblGrid>
                <a:gridCol w="517320"/>
                <a:gridCol w="517680"/>
                <a:gridCol w="517320"/>
                <a:gridCol w="517680"/>
                <a:gridCol w="517320"/>
                <a:gridCol w="517680"/>
                <a:gridCol w="517680"/>
                <a:gridCol w="517320"/>
                <a:gridCol w="517680"/>
                <a:gridCol w="517320"/>
                <a:gridCol w="517680"/>
                <a:gridCol w="517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0" y="863280"/>
            <a:ext cx="6435720" cy="5678280"/>
            <a:chOff x="0" y="863280"/>
            <a:chExt cx="6435720" cy="5678280"/>
          </a:xfrm>
        </p:grpSpPr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6012000" y="3519360"/>
                  <a:ext cx="3333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34" name=""/>
            <p:cNvGrpSpPr/>
            <p:nvPr/>
          </p:nvGrpSpPr>
          <p:grpSpPr>
            <a:xfrm>
              <a:off x="0" y="863280"/>
              <a:ext cx="6435720" cy="5678280"/>
              <a:chOff x="0" y="863280"/>
              <a:chExt cx="6435720" cy="5678280"/>
            </a:xfrm>
          </p:grpSpPr>
          <p:sp>
            <p:nvSpPr>
              <p:cNvPr id="535" name=""/>
              <p:cNvSpPr/>
              <p:nvPr/>
            </p:nvSpPr>
            <p:spPr>
              <a:xfrm flipV="1">
                <a:off x="3330720" y="863280"/>
                <a:ext cx="0" cy="567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0" y="954000"/>
                <a:ext cx="6435720" cy="4261680"/>
                <a:chOff x="0" y="954000"/>
                <a:chExt cx="6435720" cy="42616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270000" y="3969720"/>
                  <a:ext cx="6165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38" name=""/>
                    <p:cNvSpPr txBox="1"/>
                    <p:nvPr/>
                  </p:nvSpPr>
                  <p:spPr>
                    <a:xfrm>
                      <a:off x="3375000" y="2709360"/>
                      <a:ext cx="274680" cy="434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1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39" name=""/>
                    <p:cNvSpPr txBox="1"/>
                    <p:nvPr/>
                  </p:nvSpPr>
                  <p:spPr>
                    <a:xfrm>
                      <a:off x="3240000" y="4824000"/>
                      <a:ext cx="513000" cy="391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40" name=""/>
                    <p:cNvSpPr txBox="1"/>
                    <p:nvPr/>
                  </p:nvSpPr>
                  <p:spPr>
                    <a:xfrm>
                      <a:off x="1395360" y="3879360"/>
                      <a:ext cx="573120" cy="810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41" name=""/>
                    <p:cNvSpPr txBox="1"/>
                    <p:nvPr/>
                  </p:nvSpPr>
                  <p:spPr>
                    <a:xfrm>
                      <a:off x="4726080" y="3923640"/>
                      <a:ext cx="295200" cy="765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42" name=""/>
                    <p:cNvSpPr txBox="1"/>
                    <p:nvPr/>
                  </p:nvSpPr>
                  <p:spPr>
                    <a:xfrm>
                      <a:off x="6135840" y="4069800"/>
                      <a:ext cx="245880" cy="269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π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43" name=""/>
                    <p:cNvSpPr txBox="1"/>
                    <p:nvPr/>
                  </p:nvSpPr>
                  <p:spPr>
                    <a:xfrm>
                      <a:off x="3421080" y="3969720"/>
                      <a:ext cx="289080" cy="404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44" name=""/>
                    <p:cNvSpPr txBox="1"/>
                    <p:nvPr/>
                  </p:nvSpPr>
                  <p:spPr>
                    <a:xfrm>
                      <a:off x="0" y="4014360"/>
                      <a:ext cx="476280" cy="261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t xml:space="preserve">π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45" name=""/>
                    <p:cNvSpPr txBox="1"/>
                    <p:nvPr/>
                  </p:nvSpPr>
                  <p:spPr>
                    <a:xfrm>
                      <a:off x="3375000" y="954000"/>
                      <a:ext cx="405000" cy="406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546" name=""/>
          <p:cNvGrpSpPr/>
          <p:nvPr/>
        </p:nvGrpSpPr>
        <p:grpSpPr>
          <a:xfrm>
            <a:off x="3762360" y="773280"/>
            <a:ext cx="2136960" cy="5760720"/>
            <a:chOff x="3762360" y="773280"/>
            <a:chExt cx="2136960" cy="5760720"/>
          </a:xfrm>
        </p:grpSpPr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4098960" y="1807920"/>
                  <a:ext cx="98892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tg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8" name=""/>
            <p:cNvSpPr/>
            <p:nvPr/>
          </p:nvSpPr>
          <p:spPr>
            <a:xfrm>
              <a:off x="3762360" y="773280"/>
              <a:ext cx="2136960" cy="5760720"/>
            </a:xfrm>
            <a:custGeom>
              <a:avLst/>
              <a:gdLst/>
              <a:ahLst/>
              <a:rect l="l" t="t" r="r" b="b"/>
              <a:pathLst>
                <a:path w="1346" h="3629">
                  <a:moveTo>
                    <a:pt x="1346" y="3629"/>
                  </a:moveTo>
                  <a:cubicBezTo>
                    <a:pt x="1301" y="3270"/>
                    <a:pt x="1256" y="2911"/>
                    <a:pt x="1147" y="2637"/>
                  </a:cubicBezTo>
                  <a:cubicBezTo>
                    <a:pt x="1038" y="2363"/>
                    <a:pt x="840" y="2202"/>
                    <a:pt x="694" y="1985"/>
                  </a:cubicBezTo>
                  <a:cubicBezTo>
                    <a:pt x="548" y="1768"/>
                    <a:pt x="378" y="1607"/>
                    <a:pt x="269" y="1333"/>
                  </a:cubicBezTo>
                  <a:cubicBezTo>
                    <a:pt x="160" y="1059"/>
                    <a:pt x="84" y="562"/>
                    <a:pt x="42" y="340"/>
                  </a:cubicBezTo>
                  <a:cubicBezTo>
                    <a:pt x="0" y="118"/>
                    <a:pt x="7" y="59"/>
                    <a:pt x="14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06280" y="1268280"/>
            <a:ext cx="6210360" cy="2271960"/>
            <a:chOff x="206280" y="1268280"/>
            <a:chExt cx="6210360" cy="2271960"/>
          </a:xfrm>
        </p:grpSpPr>
        <p:sp>
          <p:nvSpPr>
            <p:cNvPr id="550" name=""/>
            <p:cNvSpPr/>
            <p:nvPr/>
          </p:nvSpPr>
          <p:spPr>
            <a:xfrm>
              <a:off x="206280" y="1268280"/>
              <a:ext cx="6210360" cy="2271960"/>
            </a:xfrm>
            <a:custGeom>
              <a:avLst/>
              <a:gdLst/>
              <a:ahLst/>
              <a:rect l="l" t="t" r="r" b="b"/>
              <a:pathLst>
                <a:path w="3912" h="1431">
                  <a:moveTo>
                    <a:pt x="0" y="0"/>
                  </a:moveTo>
                  <a:cubicBezTo>
                    <a:pt x="47" y="2"/>
                    <a:pt x="95" y="4"/>
                    <a:pt x="312" y="56"/>
                  </a:cubicBezTo>
                  <a:cubicBezTo>
                    <a:pt x="529" y="108"/>
                    <a:pt x="1025" y="202"/>
                    <a:pt x="1304" y="311"/>
                  </a:cubicBezTo>
                  <a:cubicBezTo>
                    <a:pt x="1583" y="420"/>
                    <a:pt x="1767" y="566"/>
                    <a:pt x="1984" y="708"/>
                  </a:cubicBezTo>
                  <a:cubicBezTo>
                    <a:pt x="2201" y="850"/>
                    <a:pt x="2343" y="1049"/>
                    <a:pt x="2608" y="1162"/>
                  </a:cubicBezTo>
                  <a:cubicBezTo>
                    <a:pt x="2873" y="1275"/>
                    <a:pt x="3355" y="1347"/>
                    <a:pt x="3572" y="1389"/>
                  </a:cubicBezTo>
                  <a:cubicBezTo>
                    <a:pt x="3789" y="1431"/>
                    <a:pt x="3850" y="1424"/>
                    <a:pt x="3912" y="141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1" name=""/>
                <p:cNvSpPr txBox="1"/>
                <p:nvPr/>
              </p:nvSpPr>
              <p:spPr>
                <a:xfrm>
                  <a:off x="611280" y="1717560"/>
                  <a:ext cx="14414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ctg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2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12000" y="5229360"/>
            <a:ext cx="2070000" cy="495000"/>
          </a:xfrm>
          <a:custGeom>
            <a:avLst/>
            <a:gdLst>
              <a:gd name="textAreaLeft" fmla="*/ 32040 w 2070000"/>
              <a:gd name="textAreaRight" fmla="*/ 2037960 w 2070000"/>
              <a:gd name="textAreaTop" fmla="*/ 32040 h 495000"/>
              <a:gd name="textAreaBottom" fmla="*/ 462960 h 495000"/>
            </a:gdLst>
            <a:ahLst/>
            <a:rect l="textAreaLeft" t="textAreaTop" r="textAreaRight" b="textAreaBottom"/>
            <a:pathLst>
              <a:path w="90277" h="21600">
                <a:moveTo>
                  <a:pt x="0" y="0"/>
                </a:moveTo>
                <a:lnTo>
                  <a:pt x="90277" y="0"/>
                </a:lnTo>
                <a:lnTo>
                  <a:pt x="90277" y="21600"/>
                </a:lnTo>
                <a:lnTo>
                  <a:pt x="0" y="21600"/>
                </a:lnTo>
                <a:close/>
              </a:path>
              <a:path fill="lightenLess" w="90277" h="21600">
                <a:moveTo>
                  <a:pt x="0" y="0"/>
                </a:moveTo>
                <a:lnTo>
                  <a:pt x="90277" y="0"/>
                </a:lnTo>
                <a:lnTo>
                  <a:pt x="88877" y="1400"/>
                </a:lnTo>
                <a:lnTo>
                  <a:pt x="1400" y="1400"/>
                </a:lnTo>
                <a:close/>
              </a:path>
              <a:path fill="darken" w="90277" h="21600">
                <a:moveTo>
                  <a:pt x="90277" y="0"/>
                </a:moveTo>
                <a:lnTo>
                  <a:pt x="90277" y="21600"/>
                </a:lnTo>
                <a:lnTo>
                  <a:pt x="88877" y="20200"/>
                </a:lnTo>
                <a:lnTo>
                  <a:pt x="88877" y="1400"/>
                </a:lnTo>
                <a:close/>
              </a:path>
              <a:path fill="darkenLess" w="90277" h="21600">
                <a:moveTo>
                  <a:pt x="90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77" y="20200"/>
                </a:lnTo>
                <a:close/>
              </a:path>
              <a:path fill="lighten" w="90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927000" y="1314360"/>
            <a:ext cx="5253120" cy="5068800"/>
            <a:chOff x="927000" y="1314360"/>
            <a:chExt cx="5253120" cy="5068800"/>
          </a:xfrm>
        </p:grpSpPr>
        <p:sp>
          <p:nvSpPr>
            <p:cNvPr id="555" name=""/>
            <p:cNvSpPr/>
            <p:nvPr/>
          </p:nvSpPr>
          <p:spPr>
            <a:xfrm flipH="1">
              <a:off x="927000" y="1735200"/>
              <a:ext cx="4648320" cy="4647960"/>
            </a:xfrm>
            <a:prstGeom prst="line">
              <a:avLst/>
            </a:prstGeom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36520" y="131436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6534000" y="1179360"/>
            <a:ext cx="2610000" cy="2114640"/>
          </a:xfrm>
          <a:custGeom>
            <a:avLst/>
            <a:gdLst>
              <a:gd name="textAreaLeft" fmla="*/ 136800 w 2610000"/>
              <a:gd name="textAreaRight" fmla="*/ 2473200 w 2610000"/>
              <a:gd name="textAreaTop" fmla="*/ 136800 h 2114640"/>
              <a:gd name="textAreaBottom" fmla="*/ 1977840 h 2114640"/>
            </a:gdLst>
            <a:ahLst/>
            <a:rect l="textAreaLeft" t="textAreaTop" r="textAreaRight" b="textAreaBottom"/>
            <a:pathLst>
              <a:path w="26659" h="21600">
                <a:moveTo>
                  <a:pt x="0" y="0"/>
                </a:moveTo>
                <a:lnTo>
                  <a:pt x="26659" y="0"/>
                </a:lnTo>
                <a:lnTo>
                  <a:pt x="26659" y="21600"/>
                </a:lnTo>
                <a:lnTo>
                  <a:pt x="0" y="21600"/>
                </a:lnTo>
                <a:close/>
              </a:path>
              <a:path fill="lightenLess" w="26659" h="21600">
                <a:moveTo>
                  <a:pt x="0" y="0"/>
                </a:moveTo>
                <a:lnTo>
                  <a:pt x="26659" y="0"/>
                </a:lnTo>
                <a:lnTo>
                  <a:pt x="25259" y="1400"/>
                </a:lnTo>
                <a:lnTo>
                  <a:pt x="1400" y="1400"/>
                </a:lnTo>
                <a:close/>
              </a:path>
              <a:path fill="darken" w="26659" h="21600">
                <a:moveTo>
                  <a:pt x="26659" y="0"/>
                </a:moveTo>
                <a:lnTo>
                  <a:pt x="26659" y="21600"/>
                </a:lnTo>
                <a:lnTo>
                  <a:pt x="25259" y="20200"/>
                </a:lnTo>
                <a:lnTo>
                  <a:pt x="25259" y="1400"/>
                </a:lnTo>
                <a:close/>
              </a:path>
              <a:path fill="darkenLess" w="26659" h="21600">
                <a:moveTo>
                  <a:pt x="26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9" y="20200"/>
                </a:lnTo>
                <a:close/>
              </a:path>
              <a:path fill="lighten" w="26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-ja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)=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rcct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virkštinė f-ja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rcct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grafi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gaunam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grafiką simetrišk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tvaizdavus ties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x atžvilg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500"/>
                            </p:stCondLst>
                            <p:childTnLst>
                              <p:par>
                                <p:cTn id="1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Jei a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a = b,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g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b = 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ir 0&lt;b&lt;</a:t>
            </a: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(arc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tg x) = (-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∞; +∞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(arc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tg x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0; </a:t>
            </a: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i lyginė, nei nelyginė f-j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c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g(-x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c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g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ažėjanti visoje apibrėžimo srity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Ctg(arcctg 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vz.:ctg(arcctg 5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0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1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1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1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10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10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1000"/>
                                        <p:tgtEl>
                                          <p:spTgt spid="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lt-LT" sz="4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=sin x grafik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21280" y="1600200"/>
            <a:ext cx="651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2360" y="1359000"/>
          <a:ext cx="8278560" cy="4657680"/>
        </p:xfrm>
        <a:graphic>
          <a:graphicData uri="http://schemas.openxmlformats.org/drawingml/2006/table">
            <a:tbl>
              <a:tblPr/>
              <a:tblGrid>
                <a:gridCol w="519120"/>
                <a:gridCol w="514080"/>
                <a:gridCol w="519120"/>
                <a:gridCol w="516240"/>
                <a:gridCol w="517320"/>
                <a:gridCol w="519120"/>
                <a:gridCol w="515880"/>
                <a:gridCol w="517680"/>
                <a:gridCol w="515880"/>
                <a:gridCol w="519120"/>
                <a:gridCol w="517680"/>
                <a:gridCol w="515880"/>
                <a:gridCol w="519120"/>
                <a:gridCol w="514080"/>
                <a:gridCol w="519120"/>
                <a:gridCol w="519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22360" y="2889360"/>
            <a:ext cx="7742160" cy="2070000"/>
          </a:xfrm>
          <a:custGeom>
            <a:avLst/>
            <a:gdLst/>
            <a:ahLst/>
            <a:rect l="l" t="t" r="r" b="b"/>
            <a:pathLst>
              <a:path w="4877" h="1304">
                <a:moveTo>
                  <a:pt x="0" y="1304"/>
                </a:moveTo>
                <a:cubicBezTo>
                  <a:pt x="333" y="1100"/>
                  <a:pt x="667" y="897"/>
                  <a:pt x="993" y="680"/>
                </a:cubicBezTo>
                <a:cubicBezTo>
                  <a:pt x="1319" y="463"/>
                  <a:pt x="1631" y="0"/>
                  <a:pt x="1957" y="0"/>
                </a:cubicBezTo>
                <a:cubicBezTo>
                  <a:pt x="2283" y="0"/>
                  <a:pt x="2623" y="463"/>
                  <a:pt x="2949" y="680"/>
                </a:cubicBezTo>
                <a:cubicBezTo>
                  <a:pt x="3275" y="897"/>
                  <a:pt x="3592" y="1304"/>
                  <a:pt x="3913" y="1304"/>
                </a:cubicBezTo>
                <a:cubicBezTo>
                  <a:pt x="4234" y="1304"/>
                  <a:pt x="4716" y="784"/>
                  <a:pt x="4877" y="68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67360" y="6173640"/>
            <a:ext cx="2070000" cy="495360"/>
          </a:xfrm>
          <a:custGeom>
            <a:avLst/>
            <a:gdLst>
              <a:gd name="textAreaLeft" fmla="*/ 32040 w 2070000"/>
              <a:gd name="textAreaRight" fmla="*/ 2037960 w 207000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12" h="21600">
                <a:moveTo>
                  <a:pt x="0" y="0"/>
                </a:moveTo>
                <a:lnTo>
                  <a:pt x="90212" y="0"/>
                </a:lnTo>
                <a:lnTo>
                  <a:pt x="90212" y="21600"/>
                </a:lnTo>
                <a:lnTo>
                  <a:pt x="0" y="21600"/>
                </a:lnTo>
                <a:close/>
              </a:path>
              <a:path fill="lightenLess" w="90212" h="21600">
                <a:moveTo>
                  <a:pt x="0" y="0"/>
                </a:moveTo>
                <a:lnTo>
                  <a:pt x="90212" y="0"/>
                </a:lnTo>
                <a:lnTo>
                  <a:pt x="88812" y="1400"/>
                </a:lnTo>
                <a:lnTo>
                  <a:pt x="1400" y="1400"/>
                </a:lnTo>
                <a:close/>
              </a:path>
              <a:path fill="darken" w="90212" h="21600">
                <a:moveTo>
                  <a:pt x="90212" y="0"/>
                </a:moveTo>
                <a:lnTo>
                  <a:pt x="90212" y="21600"/>
                </a:lnTo>
                <a:lnTo>
                  <a:pt x="88812" y="20200"/>
                </a:lnTo>
                <a:lnTo>
                  <a:pt x="88812" y="1400"/>
                </a:lnTo>
                <a:close/>
              </a:path>
              <a:path fill="darkenLess" w="90212" h="21600">
                <a:moveTo>
                  <a:pt x="90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12" y="20200"/>
                </a:lnTo>
                <a:close/>
              </a:path>
              <a:path fill="lighten" w="90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0920" y="1403280"/>
            <a:ext cx="8551800" cy="4546800"/>
            <a:chOff x="250920" y="1403280"/>
            <a:chExt cx="8551800" cy="4546800"/>
          </a:xfrm>
        </p:grpSpPr>
        <p:grpSp>
          <p:nvGrpSpPr>
            <p:cNvPr id="62" name=""/>
            <p:cNvGrpSpPr/>
            <p:nvPr/>
          </p:nvGrpSpPr>
          <p:grpSpPr>
            <a:xfrm>
              <a:off x="250920" y="1403280"/>
              <a:ext cx="8551800" cy="4546800"/>
              <a:chOff x="250920" y="1403280"/>
              <a:chExt cx="8551800" cy="454680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250920" y="1403280"/>
                <a:ext cx="8551800" cy="4546800"/>
                <a:chOff x="250920" y="1403280"/>
                <a:chExt cx="8551800" cy="4546800"/>
              </a:xfrm>
            </p:grpSpPr>
            <p:grpSp>
              <p:nvGrpSpPr>
                <p:cNvPr id="64" name=""/>
                <p:cNvGrpSpPr/>
                <p:nvPr/>
              </p:nvGrpSpPr>
              <p:grpSpPr>
                <a:xfrm>
                  <a:off x="250920" y="3924360"/>
                  <a:ext cx="8208720" cy="811080"/>
                  <a:chOff x="250920" y="3924360"/>
                  <a:chExt cx="8208720" cy="81108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65" name=""/>
                      <p:cNvSpPr txBox="1"/>
                      <p:nvPr/>
                    </p:nvSpPr>
                    <p:spPr>
                      <a:xfrm>
                        <a:off x="250920" y="3924360"/>
                        <a:ext cx="573120" cy="8110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6" name=""/>
                      <p:cNvSpPr txBox="1"/>
                      <p:nvPr/>
                    </p:nvSpPr>
                    <p:spPr>
                      <a:xfrm>
                        <a:off x="3402000" y="3968640"/>
                        <a:ext cx="295200" cy="7653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7" name=""/>
                      <p:cNvSpPr txBox="1"/>
                      <p:nvPr/>
                    </p:nvSpPr>
                    <p:spPr>
                      <a:xfrm>
                        <a:off x="5067360" y="4103640"/>
                        <a:ext cx="245880" cy="2700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π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8" name=""/>
                      <p:cNvSpPr txBox="1"/>
                      <p:nvPr/>
                    </p:nvSpPr>
                    <p:spPr>
                      <a:xfrm>
                        <a:off x="6507000" y="3968640"/>
                        <a:ext cx="439920" cy="719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69" name=""/>
                      <p:cNvSpPr txBox="1"/>
                      <p:nvPr/>
                    </p:nvSpPr>
                    <p:spPr>
                      <a:xfrm>
                        <a:off x="8037360" y="4059360"/>
                        <a:ext cx="422280" cy="3474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611280" y="1403280"/>
                  <a:ext cx="8191440" cy="4546800"/>
                  <a:chOff x="611280" y="1403280"/>
                  <a:chExt cx="8191440" cy="454680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2097000" y="1403280"/>
                    <a:ext cx="523800" cy="4546800"/>
                    <a:chOff x="2097000" y="1403280"/>
                    <a:chExt cx="523800" cy="454680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 flipV="1">
                      <a:off x="2097000" y="1403280"/>
                      <a:ext cx="0" cy="4546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lg" type="triangle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73" name=""/>
                        <p:cNvSpPr txBox="1"/>
                        <p:nvPr/>
                      </p:nvSpPr>
                      <p:spPr>
                        <a:xfrm>
                          <a:off x="2276640" y="1494000"/>
                          <a:ext cx="344160" cy="449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611280" y="3968640"/>
                    <a:ext cx="8191440" cy="405000"/>
                    <a:chOff x="611280" y="3968640"/>
                    <a:chExt cx="8191440" cy="40500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611280" y="3968640"/>
                      <a:ext cx="81914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lg" type="triangle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76" name=""/>
                        <p:cNvSpPr txBox="1"/>
                        <p:nvPr/>
                      </p:nvSpPr>
                      <p:spPr>
                        <a:xfrm>
                          <a:off x="8442360" y="4059360"/>
                          <a:ext cx="314280" cy="314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</p:grp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141640" y="4014720"/>
                    <a:ext cx="2887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8" name=""/>
            <p:cNvGrpSpPr/>
            <p:nvPr/>
          </p:nvGrpSpPr>
          <p:grpSpPr>
            <a:xfrm>
              <a:off x="2097000" y="2754360"/>
              <a:ext cx="513000" cy="2371680"/>
              <a:chOff x="2097000" y="2754360"/>
              <a:chExt cx="513000" cy="2371680"/>
            </a:xfrm>
          </p:grpSpPr>
          <mc:AlternateContent>
            <mc:Choice xmlns:a14="http://schemas.microsoft.com/office/drawing/2010/main" Requires="a14">
              <p:sp>
                <p:nvSpPr>
                  <p:cNvPr id="79" name=""/>
                  <p:cNvSpPr txBox="1"/>
                  <p:nvPr/>
                </p:nvSpPr>
                <p:spPr>
                  <a:xfrm>
                    <a:off x="2097000" y="4734000"/>
                    <a:ext cx="51300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0" name=""/>
                  <p:cNvSpPr txBox="1"/>
                  <p:nvPr/>
                </p:nvSpPr>
                <p:spPr>
                  <a:xfrm>
                    <a:off x="2185920" y="2754360"/>
                    <a:ext cx="274680" cy="39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81" name=""/>
          <p:cNvSpPr/>
          <p:nvPr/>
        </p:nvSpPr>
        <p:spPr>
          <a:xfrm>
            <a:off x="1062000" y="6039000"/>
            <a:ext cx="3059280" cy="630000"/>
          </a:xfrm>
          <a:custGeom>
            <a:avLst/>
            <a:gdLst>
              <a:gd name="textAreaLeft" fmla="*/ 40680 w 3059280"/>
              <a:gd name="textAreaRight" fmla="*/ 3018600 w 3059280"/>
              <a:gd name="textAreaTop" fmla="*/ 40680 h 630000"/>
              <a:gd name="textAreaBottom" fmla="*/ 589320 h 630000"/>
            </a:gdLst>
            <a:ahLst/>
            <a:rect l="textAreaLeft" t="textAreaTop" r="textAreaRight" b="textAreaBottom"/>
            <a:pathLst>
              <a:path w="104842" h="21600">
                <a:moveTo>
                  <a:pt x="0" y="0"/>
                </a:moveTo>
                <a:lnTo>
                  <a:pt x="104842" y="0"/>
                </a:lnTo>
                <a:lnTo>
                  <a:pt x="104842" y="21600"/>
                </a:lnTo>
                <a:lnTo>
                  <a:pt x="0" y="21600"/>
                </a:lnTo>
                <a:close/>
              </a:path>
              <a:path fill="lightenLess" w="104842" h="21600">
                <a:moveTo>
                  <a:pt x="0" y="0"/>
                </a:moveTo>
                <a:lnTo>
                  <a:pt x="104842" y="0"/>
                </a:lnTo>
                <a:lnTo>
                  <a:pt x="103442" y="1400"/>
                </a:lnTo>
                <a:lnTo>
                  <a:pt x="1400" y="1400"/>
                </a:lnTo>
                <a:close/>
              </a:path>
              <a:path fill="darken" w="104842" h="21600">
                <a:moveTo>
                  <a:pt x="104842" y="0"/>
                </a:moveTo>
                <a:lnTo>
                  <a:pt x="104842" y="21600"/>
                </a:lnTo>
                <a:lnTo>
                  <a:pt x="103442" y="20200"/>
                </a:lnTo>
                <a:lnTo>
                  <a:pt x="103442" y="1400"/>
                </a:lnTo>
                <a:close/>
              </a:path>
              <a:path fill="darkenLess" w="104842" h="21600">
                <a:moveTo>
                  <a:pt x="104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442" y="20200"/>
                </a:lnTo>
                <a:close/>
              </a:path>
              <a:path fill="lighten" w="104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=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grafi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dinamas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n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Savybės 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si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(y)= (-</a:t>
            </a:r>
            <a:r>
              <a:rPr b="0" sz="4400" spc="-1" strike="noStrike" baseline="-4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sz="2800" spc="-1" strike="noStrike" baseline="-4000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sz="4400" spc="-1" strike="noStrike" baseline="-4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Arial"/>
              </a:rPr>
              <a:t>E(y)= [-1; 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Arial"/>
              </a:rPr>
              <a:t>F-ja didėja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-ja mažėja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= sin x periodinė f-ja T= 2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yginė f-ja sin(-x) = -sin(x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x&gt;0, 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x&lt;0, 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8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1, 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4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-4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en-US" sz="2400" spc="-1" strike="noStrike" baseline="-4000">
                <a:solidFill>
                  <a:srgbClr val="000000"/>
                </a:solidFill>
                <a:latin typeface="Times New Roman"/>
                <a:ea typeface="Arial"/>
              </a:rPr>
              <a:t>min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,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132000" y="2259000"/>
                <a:ext cx="39164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1640" y="2754360"/>
                <a:ext cx="37800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06640" y="4194000"/>
                <a:ext cx="33530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727360" y="4869000"/>
                <a:ext cx="243036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yg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čių sin x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 a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 a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x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 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 a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x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 -1&lt;a&lt;1,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vz. 2sin x =1  \ 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 x =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975280" y="2862360"/>
                <a:ext cx="252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92000" y="2529000"/>
                <a:ext cx="34657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92000" y="4778280"/>
                <a:ext cx="337680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976640" y="2573280"/>
                <a:ext cx="3691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21280" y="4373640"/>
                <a:ext cx="32418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067360" y="5454720"/>
                <a:ext cx="37353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712360" y="6173640"/>
            <a:ext cx="431640" cy="4971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97160"/>
              <a:gd name="textAreaBottom" fmla="*/ 469440 h 497160"/>
            </a:gdLst>
            <a:ahLst/>
            <a:rect l="textAreaLeft" t="textAreaTop" r="textAreaRight" b="textAreaBottom"/>
            <a:pathLst>
              <a:path w="21600" h="24876">
                <a:moveTo>
                  <a:pt x="0" y="0"/>
                </a:moveTo>
                <a:lnTo>
                  <a:pt x="21600" y="0"/>
                </a:lnTo>
                <a:lnTo>
                  <a:pt x="21600" y="24876"/>
                </a:lnTo>
                <a:lnTo>
                  <a:pt x="0" y="24876"/>
                </a:lnTo>
                <a:close/>
              </a:path>
              <a:path fill="lightenLess" w="21600" h="248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76">
                <a:moveTo>
                  <a:pt x="21600" y="0"/>
                </a:moveTo>
                <a:lnTo>
                  <a:pt x="21600" y="24876"/>
                </a:lnTo>
                <a:lnTo>
                  <a:pt x="20200" y="23476"/>
                </a:lnTo>
                <a:lnTo>
                  <a:pt x="20200" y="1400"/>
                </a:lnTo>
                <a:close/>
              </a:path>
              <a:path fill="darkenLess" w="21600" h="24876">
                <a:moveTo>
                  <a:pt x="21600" y="24876"/>
                </a:moveTo>
                <a:lnTo>
                  <a:pt x="0" y="24876"/>
                </a:lnTo>
                <a:lnTo>
                  <a:pt x="1400" y="23476"/>
                </a:lnTo>
                <a:lnTo>
                  <a:pt x="20200" y="23476"/>
                </a:lnTo>
                <a:close/>
              </a:path>
              <a:path fill="lighten" w="21600" h="24876">
                <a:moveTo>
                  <a:pt x="0" y="248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76"/>
                </a:lnTo>
                <a:close/>
              </a:path>
              <a:path fill="darken" w="21600" h="24876">
                <a:moveTo>
                  <a:pt x="3794" y="5432"/>
                </a:moveTo>
                <a:lnTo>
                  <a:pt x="17806" y="12438"/>
                </a:lnTo>
                <a:lnTo>
                  <a:pt x="3794" y="194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75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95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75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955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55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65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65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8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65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yg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čių sin x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 a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i a&gt;1 ir a&lt;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x 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rend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ų ne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n 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n 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ndinių neturi              sprendinių ne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7362720" y="6170760"/>
            <a:ext cx="497160" cy="496800"/>
          </a:xfrm>
          <a:custGeom>
            <a:avLst/>
            <a:gdLst>
              <a:gd name="textAreaLeft" fmla="*/ 32040 w 497160"/>
              <a:gd name="textAreaRight" fmla="*/ 465120 w 497160"/>
              <a:gd name="textAreaTop" fmla="*/ 32040 h 496800"/>
              <a:gd name="textAreaBottom" fmla="*/ 464760 h 496800"/>
            </a:gdLst>
            <a:ahLst/>
            <a:rect l="textAreaLeft" t="textAreaTop" r="textAreaRight" b="textAreaBottom"/>
            <a:pathLst>
              <a:path w="21616" h="21600">
                <a:moveTo>
                  <a:pt x="0" y="0"/>
                </a:moveTo>
                <a:lnTo>
                  <a:pt x="21616" y="0"/>
                </a:lnTo>
                <a:lnTo>
                  <a:pt x="21616" y="21600"/>
                </a:lnTo>
                <a:lnTo>
                  <a:pt x="0" y="21600"/>
                </a:lnTo>
                <a:close/>
              </a:path>
              <a:path fill="lightenLess" w="21616" h="21600">
                <a:moveTo>
                  <a:pt x="0" y="0"/>
                </a:moveTo>
                <a:lnTo>
                  <a:pt x="21616" y="0"/>
                </a:lnTo>
                <a:lnTo>
                  <a:pt x="20216" y="1400"/>
                </a:lnTo>
                <a:lnTo>
                  <a:pt x="1400" y="1400"/>
                </a:lnTo>
                <a:close/>
              </a:path>
              <a:path fill="darken" w="21616" h="21600">
                <a:moveTo>
                  <a:pt x="21616" y="0"/>
                </a:moveTo>
                <a:lnTo>
                  <a:pt x="21616" y="21600"/>
                </a:lnTo>
                <a:lnTo>
                  <a:pt x="20216" y="20200"/>
                </a:lnTo>
                <a:lnTo>
                  <a:pt x="20216" y="1400"/>
                </a:lnTo>
                <a:close/>
              </a:path>
              <a:path fill="darkenLess" w="21616" h="21600">
                <a:moveTo>
                  <a:pt x="21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6" y="20200"/>
                </a:lnTo>
                <a:close/>
              </a:path>
              <a:path fill="lighten" w="21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6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elygyb</a:t>
            </a: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ių sprend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6589800" cy="5272200"/>
        </p:xfrm>
        <a:graphic>
          <a:graphicData uri="http://schemas.openxmlformats.org/drawingml/2006/table">
            <a:tbl>
              <a:tblPr/>
              <a:tblGrid>
                <a:gridCol w="441360"/>
                <a:gridCol w="438120"/>
                <a:gridCol w="441360"/>
                <a:gridCol w="407880"/>
                <a:gridCol w="471600"/>
                <a:gridCol w="428760"/>
                <a:gridCol w="450720"/>
                <a:gridCol w="449280"/>
                <a:gridCol w="431640"/>
                <a:gridCol w="438120"/>
                <a:gridCol w="441360"/>
                <a:gridCol w="441360"/>
                <a:gridCol w="407880"/>
                <a:gridCol w="471600"/>
                <a:gridCol w="428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66640" y="4194000"/>
            <a:ext cx="643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781280" y="1628640"/>
            <a:ext cx="0" cy="499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51280" y="4238640"/>
                <a:ext cx="2952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15920" y="4284720"/>
                <a:ext cx="5731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257720" y="4329000"/>
                <a:ext cx="2458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607000" y="4284720"/>
                <a:ext cx="439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732720" y="4284720"/>
                <a:ext cx="4222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736640" y="5003640"/>
                <a:ext cx="513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827360" y="2979720"/>
                <a:ext cx="2743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182000" y="1628640"/>
                <a:ext cx="14396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7093080" y="3249720"/>
            <a:ext cx="1844640" cy="450720"/>
          </a:xfrm>
          <a:custGeom>
            <a:avLst/>
            <a:gdLst>
              <a:gd name="textAreaLeft" fmla="*/ 29160 w 1844640"/>
              <a:gd name="textAreaRight" fmla="*/ 1815480 w 184464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88348" h="21600">
                <a:moveTo>
                  <a:pt x="0" y="0"/>
                </a:moveTo>
                <a:lnTo>
                  <a:pt x="88348" y="0"/>
                </a:lnTo>
                <a:lnTo>
                  <a:pt x="88348" y="21600"/>
                </a:lnTo>
                <a:lnTo>
                  <a:pt x="0" y="21600"/>
                </a:lnTo>
                <a:close/>
              </a:path>
              <a:path fill="lightenLess" w="88348" h="21600">
                <a:moveTo>
                  <a:pt x="0" y="0"/>
                </a:moveTo>
                <a:lnTo>
                  <a:pt x="88348" y="0"/>
                </a:lnTo>
                <a:lnTo>
                  <a:pt x="86948" y="1400"/>
                </a:lnTo>
                <a:lnTo>
                  <a:pt x="1400" y="1400"/>
                </a:lnTo>
                <a:close/>
              </a:path>
              <a:path fill="darken" w="88348" h="21600">
                <a:moveTo>
                  <a:pt x="88348" y="0"/>
                </a:moveTo>
                <a:lnTo>
                  <a:pt x="88348" y="21600"/>
                </a:lnTo>
                <a:lnTo>
                  <a:pt x="86948" y="20200"/>
                </a:lnTo>
                <a:lnTo>
                  <a:pt x="86948" y="1400"/>
                </a:lnTo>
                <a:close/>
              </a:path>
              <a:path fill="darkenLess" w="88348" h="21600">
                <a:moveTo>
                  <a:pt x="88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48" y="20200"/>
                </a:lnTo>
                <a:close/>
              </a:path>
              <a:path fill="lighten" w="88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t-LT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3833640"/>
            <a:ext cx="1844640" cy="451080"/>
          </a:xfrm>
          <a:custGeom>
            <a:avLst/>
            <a:gdLst>
              <a:gd name="textAreaLeft" fmla="*/ 29160 w 1844640"/>
              <a:gd name="textAreaRight" fmla="*/ 1815480 w 184464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88278" h="21600">
                <a:moveTo>
                  <a:pt x="0" y="0"/>
                </a:moveTo>
                <a:lnTo>
                  <a:pt x="88278" y="0"/>
                </a:lnTo>
                <a:lnTo>
                  <a:pt x="88278" y="21600"/>
                </a:lnTo>
                <a:lnTo>
                  <a:pt x="0" y="21600"/>
                </a:lnTo>
                <a:close/>
              </a:path>
              <a:path fill="lightenLess" w="88278" h="21600">
                <a:moveTo>
                  <a:pt x="0" y="0"/>
                </a:moveTo>
                <a:lnTo>
                  <a:pt x="88278" y="0"/>
                </a:lnTo>
                <a:lnTo>
                  <a:pt x="86878" y="1400"/>
                </a:lnTo>
                <a:lnTo>
                  <a:pt x="1400" y="1400"/>
                </a:lnTo>
                <a:close/>
              </a:path>
              <a:path fill="darken" w="88278" h="21600">
                <a:moveTo>
                  <a:pt x="88278" y="0"/>
                </a:moveTo>
                <a:lnTo>
                  <a:pt x="88278" y="21600"/>
                </a:lnTo>
                <a:lnTo>
                  <a:pt x="86878" y="20200"/>
                </a:lnTo>
                <a:lnTo>
                  <a:pt x="86878" y="1400"/>
                </a:lnTo>
                <a:close/>
              </a:path>
              <a:path fill="darkenLess" w="88278" h="21600">
                <a:moveTo>
                  <a:pt x="8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878" y="20200"/>
                </a:lnTo>
                <a:close/>
              </a:path>
              <a:path fill="lighten" w="8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statome susikir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timo taš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4419720"/>
            <a:ext cx="1844640" cy="450720"/>
          </a:xfrm>
          <a:custGeom>
            <a:avLst/>
            <a:gdLst>
              <a:gd name="textAreaLeft" fmla="*/ 29160 w 1844640"/>
              <a:gd name="textAreaRight" fmla="*/ 1815480 w 184464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88348" h="21600">
                <a:moveTo>
                  <a:pt x="0" y="0"/>
                </a:moveTo>
                <a:lnTo>
                  <a:pt x="88348" y="0"/>
                </a:lnTo>
                <a:lnTo>
                  <a:pt x="88348" y="21600"/>
                </a:lnTo>
                <a:lnTo>
                  <a:pt x="0" y="21600"/>
                </a:lnTo>
                <a:close/>
              </a:path>
              <a:path fill="lightenLess" w="88348" h="21600">
                <a:moveTo>
                  <a:pt x="0" y="0"/>
                </a:moveTo>
                <a:lnTo>
                  <a:pt x="88348" y="0"/>
                </a:lnTo>
                <a:lnTo>
                  <a:pt x="86948" y="1400"/>
                </a:lnTo>
                <a:lnTo>
                  <a:pt x="1400" y="1400"/>
                </a:lnTo>
                <a:close/>
              </a:path>
              <a:path fill="darken" w="88348" h="21600">
                <a:moveTo>
                  <a:pt x="88348" y="0"/>
                </a:moveTo>
                <a:lnTo>
                  <a:pt x="88348" y="21600"/>
                </a:lnTo>
                <a:lnTo>
                  <a:pt x="86948" y="20200"/>
                </a:lnTo>
                <a:lnTo>
                  <a:pt x="86948" y="1400"/>
                </a:lnTo>
                <a:close/>
              </a:path>
              <a:path fill="darkenLess" w="88348" h="21600">
                <a:moveTo>
                  <a:pt x="88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48" y="20200"/>
                </a:lnTo>
                <a:close/>
              </a:path>
              <a:path fill="lighten" w="88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ėži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tatme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x 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š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5003640"/>
            <a:ext cx="1844640" cy="451080"/>
          </a:xfrm>
          <a:custGeom>
            <a:avLst/>
            <a:gdLst>
              <a:gd name="textAreaLeft" fmla="*/ 29160 w 1844640"/>
              <a:gd name="textAreaRight" fmla="*/ 1815480 w 184464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88278" h="21600">
                <a:moveTo>
                  <a:pt x="0" y="0"/>
                </a:moveTo>
                <a:lnTo>
                  <a:pt x="88278" y="0"/>
                </a:lnTo>
                <a:lnTo>
                  <a:pt x="88278" y="21600"/>
                </a:lnTo>
                <a:lnTo>
                  <a:pt x="0" y="21600"/>
                </a:lnTo>
                <a:close/>
              </a:path>
              <a:path fill="lightenLess" w="88278" h="21600">
                <a:moveTo>
                  <a:pt x="0" y="0"/>
                </a:moveTo>
                <a:lnTo>
                  <a:pt x="88278" y="0"/>
                </a:lnTo>
                <a:lnTo>
                  <a:pt x="86878" y="1400"/>
                </a:lnTo>
                <a:lnTo>
                  <a:pt x="1400" y="1400"/>
                </a:lnTo>
                <a:close/>
              </a:path>
              <a:path fill="darken" w="88278" h="21600">
                <a:moveTo>
                  <a:pt x="88278" y="0"/>
                </a:moveTo>
                <a:lnTo>
                  <a:pt x="88278" y="21600"/>
                </a:lnTo>
                <a:lnTo>
                  <a:pt x="86878" y="20200"/>
                </a:lnTo>
                <a:lnTo>
                  <a:pt x="86878" y="1400"/>
                </a:lnTo>
                <a:close/>
              </a:path>
              <a:path fill="darkenLess" w="88278" h="21600">
                <a:moveTo>
                  <a:pt x="8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878" y="20200"/>
                </a:lnTo>
                <a:close/>
              </a:path>
              <a:path fill="lighten" w="8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tatome spr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inių interval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41640" y="3787920"/>
            <a:ext cx="1846080" cy="450720"/>
            <a:chOff x="2141640" y="3787920"/>
            <a:chExt cx="1846080" cy="450720"/>
          </a:xfrm>
        </p:grpSpPr>
        <p:sp>
          <p:nvSpPr>
            <p:cNvPr id="124" name=""/>
            <p:cNvSpPr/>
            <p:nvPr/>
          </p:nvSpPr>
          <p:spPr>
            <a:xfrm>
              <a:off x="3807000" y="4103640"/>
              <a:ext cx="180720" cy="13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2000" y="3787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41640" y="4103640"/>
              <a:ext cx="180720" cy="13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2000" y="396864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97360" y="383364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7360" y="401472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16280" y="1673280"/>
                <a:ext cx="344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732720" y="3833640"/>
                <a:ext cx="31428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" name=""/>
          <p:cNvGrpSpPr/>
          <p:nvPr/>
        </p:nvGrpSpPr>
        <p:grpSpPr>
          <a:xfrm>
            <a:off x="1332000" y="4194000"/>
            <a:ext cx="4095720" cy="2246400"/>
            <a:chOff x="1332000" y="4194000"/>
            <a:chExt cx="4095720" cy="2246400"/>
          </a:xfrm>
        </p:grpSpPr>
        <p:sp>
          <p:nvSpPr>
            <p:cNvPr id="133" name=""/>
            <p:cNvSpPr/>
            <p:nvPr/>
          </p:nvSpPr>
          <p:spPr>
            <a:xfrm>
              <a:off x="2185920" y="4284720"/>
              <a:ext cx="17096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332000" y="4194000"/>
              <a:ext cx="4095720" cy="2246400"/>
              <a:chOff x="1332000" y="4194000"/>
              <a:chExt cx="4095720" cy="2246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2097000" y="4194000"/>
                <a:ext cx="2025720" cy="451080"/>
                <a:chOff x="2097000" y="4194000"/>
                <a:chExt cx="2025720" cy="4510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36" name=""/>
                    <p:cNvSpPr txBox="1"/>
                    <p:nvPr/>
                  </p:nvSpPr>
                  <p:spPr>
                    <a:xfrm>
                      <a:off x="2097000" y="4194000"/>
                      <a:ext cx="360360" cy="451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7" name=""/>
                    <p:cNvSpPr txBox="1"/>
                    <p:nvPr/>
                  </p:nvSpPr>
                  <p:spPr>
                    <a:xfrm>
                      <a:off x="3762360" y="4194000"/>
                      <a:ext cx="360360" cy="392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8" name=""/>
              <p:cNvGrpSpPr/>
              <p:nvPr/>
            </p:nvGrpSpPr>
            <p:grpSpPr>
              <a:xfrm>
                <a:off x="1332000" y="5724360"/>
                <a:ext cx="4095720" cy="716040"/>
                <a:chOff x="1332000" y="5724360"/>
                <a:chExt cx="4095720" cy="7160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39" name=""/>
                    <p:cNvSpPr txBox="1"/>
                    <p:nvPr/>
                  </p:nvSpPr>
                  <p:spPr>
                    <a:xfrm>
                      <a:off x="1332000" y="5724360"/>
                      <a:ext cx="1755720" cy="675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sin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40" name=""/>
                    <p:cNvSpPr txBox="1"/>
                    <p:nvPr/>
                  </p:nvSpPr>
                  <p:spPr>
                    <a:xfrm>
                      <a:off x="3672000" y="5769000"/>
                      <a:ext cx="1755720" cy="671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π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sp>
        <p:nvSpPr>
          <p:cNvPr id="14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2664000"/>
            <a:ext cx="1844640" cy="450720"/>
          </a:xfrm>
          <a:custGeom>
            <a:avLst/>
            <a:gdLst>
              <a:gd name="textAreaLeft" fmla="*/ 29160 w 1844640"/>
              <a:gd name="textAreaRight" fmla="*/ 1815480 w 184464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88348" h="21600">
                <a:moveTo>
                  <a:pt x="0" y="0"/>
                </a:moveTo>
                <a:lnTo>
                  <a:pt x="88348" y="0"/>
                </a:lnTo>
                <a:lnTo>
                  <a:pt x="88348" y="21600"/>
                </a:lnTo>
                <a:lnTo>
                  <a:pt x="0" y="21600"/>
                </a:lnTo>
                <a:close/>
              </a:path>
              <a:path fill="lightenLess" w="88348" h="21600">
                <a:moveTo>
                  <a:pt x="0" y="0"/>
                </a:moveTo>
                <a:lnTo>
                  <a:pt x="88348" y="0"/>
                </a:lnTo>
                <a:lnTo>
                  <a:pt x="86948" y="1400"/>
                </a:lnTo>
                <a:lnTo>
                  <a:pt x="1400" y="1400"/>
                </a:lnTo>
                <a:close/>
              </a:path>
              <a:path fill="darken" w="88348" h="21600">
                <a:moveTo>
                  <a:pt x="88348" y="0"/>
                </a:moveTo>
                <a:lnTo>
                  <a:pt x="88348" y="21600"/>
                </a:lnTo>
                <a:lnTo>
                  <a:pt x="86948" y="20200"/>
                </a:lnTo>
                <a:lnTo>
                  <a:pt x="86948" y="1400"/>
                </a:lnTo>
                <a:close/>
              </a:path>
              <a:path fill="darkenLess" w="88348" h="21600">
                <a:moveTo>
                  <a:pt x="88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48" y="20200"/>
                </a:lnTo>
                <a:close/>
              </a:path>
              <a:path fill="lighten" w="88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raižome grafik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lt-L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31640" y="2708280"/>
            <a:ext cx="6615360" cy="2536920"/>
            <a:chOff x="431640" y="2708280"/>
            <a:chExt cx="6615360" cy="2536920"/>
          </a:xfrm>
        </p:grpSpPr>
        <p:sp>
          <p:nvSpPr>
            <p:cNvPr id="144" name=""/>
            <p:cNvSpPr/>
            <p:nvPr/>
          </p:nvSpPr>
          <p:spPr>
            <a:xfrm>
              <a:off x="431640" y="3159000"/>
              <a:ext cx="6615360" cy="2086200"/>
            </a:xfrm>
            <a:custGeom>
              <a:avLst/>
              <a:gdLst/>
              <a:ahLst/>
              <a:rect l="l" t="t" r="r" b="b"/>
              <a:pathLst>
                <a:path w="4167" h="1314">
                  <a:moveTo>
                    <a:pt x="0" y="1309"/>
                  </a:moveTo>
                  <a:cubicBezTo>
                    <a:pt x="285" y="1077"/>
                    <a:pt x="571" y="846"/>
                    <a:pt x="850" y="629"/>
                  </a:cubicBezTo>
                  <a:cubicBezTo>
                    <a:pt x="1129" y="412"/>
                    <a:pt x="1393" y="0"/>
                    <a:pt x="1672" y="5"/>
                  </a:cubicBezTo>
                  <a:cubicBezTo>
                    <a:pt x="1951" y="10"/>
                    <a:pt x="2244" y="440"/>
                    <a:pt x="2523" y="657"/>
                  </a:cubicBezTo>
                  <a:cubicBezTo>
                    <a:pt x="2802" y="874"/>
                    <a:pt x="3071" y="1314"/>
                    <a:pt x="3345" y="1309"/>
                  </a:cubicBezTo>
                  <a:cubicBezTo>
                    <a:pt x="3619" y="1304"/>
                    <a:pt x="3893" y="966"/>
                    <a:pt x="4167" y="6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222720" y="2708280"/>
                  <a:ext cx="9921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22360" y="2979720"/>
            <a:ext cx="6481800" cy="719280"/>
            <a:chOff x="522360" y="2979720"/>
            <a:chExt cx="6481800" cy="719280"/>
          </a:xfrm>
        </p:grpSpPr>
        <p:sp>
          <p:nvSpPr>
            <p:cNvPr id="148" name=""/>
            <p:cNvSpPr/>
            <p:nvPr/>
          </p:nvSpPr>
          <p:spPr>
            <a:xfrm>
              <a:off x="522360" y="3699000"/>
              <a:ext cx="648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697360" y="2979720"/>
                  <a:ext cx="684360" cy="67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"/>
          <p:cNvGrpSpPr/>
          <p:nvPr/>
        </p:nvGrpSpPr>
        <p:grpSpPr>
          <a:xfrm>
            <a:off x="2141640" y="3608280"/>
            <a:ext cx="1846080" cy="181080"/>
            <a:chOff x="2141640" y="3608280"/>
            <a:chExt cx="1846080" cy="181080"/>
          </a:xfrm>
        </p:grpSpPr>
        <p:sp>
          <p:nvSpPr>
            <p:cNvPr id="151" name=""/>
            <p:cNvSpPr/>
            <p:nvPr/>
          </p:nvSpPr>
          <p:spPr>
            <a:xfrm>
              <a:off x="3807000" y="3654360"/>
              <a:ext cx="180720" cy="13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41640" y="3608280"/>
              <a:ext cx="180720" cy="13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42360" y="627840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562720" y="5724360"/>
                <a:ext cx="31050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=arcsi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41280" y="1089000"/>
          <a:ext cx="7291440" cy="4680000"/>
        </p:xfrm>
        <a:graphic>
          <a:graphicData uri="http://schemas.openxmlformats.org/drawingml/2006/table">
            <a:tbl>
              <a:tblPr/>
              <a:tblGrid>
                <a:gridCol w="503280"/>
                <a:gridCol w="500040"/>
                <a:gridCol w="500040"/>
                <a:gridCol w="466560"/>
                <a:gridCol w="534960"/>
                <a:gridCol w="488880"/>
                <a:gridCol w="514440"/>
                <a:gridCol w="501840"/>
                <a:gridCol w="500040"/>
                <a:gridCol w="501480"/>
                <a:gridCol w="501840"/>
                <a:gridCol w="428400"/>
                <a:gridCol w="449280"/>
                <a:gridCol w="495360"/>
                <a:gridCol w="40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5967360" y="6084720"/>
            <a:ext cx="2070000" cy="495360"/>
          </a:xfrm>
          <a:custGeom>
            <a:avLst/>
            <a:gdLst>
              <a:gd name="textAreaLeft" fmla="*/ 32040 w 2070000"/>
              <a:gd name="textAreaRight" fmla="*/ 2037960 w 207000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0212" h="21600">
                <a:moveTo>
                  <a:pt x="0" y="0"/>
                </a:moveTo>
                <a:lnTo>
                  <a:pt x="90212" y="0"/>
                </a:lnTo>
                <a:lnTo>
                  <a:pt x="90212" y="21600"/>
                </a:lnTo>
                <a:lnTo>
                  <a:pt x="0" y="21600"/>
                </a:lnTo>
                <a:close/>
              </a:path>
              <a:path fill="lightenLess" w="90212" h="21600">
                <a:moveTo>
                  <a:pt x="0" y="0"/>
                </a:moveTo>
                <a:lnTo>
                  <a:pt x="90212" y="0"/>
                </a:lnTo>
                <a:lnTo>
                  <a:pt x="88812" y="1400"/>
                </a:lnTo>
                <a:lnTo>
                  <a:pt x="1400" y="1400"/>
                </a:lnTo>
                <a:close/>
              </a:path>
              <a:path fill="darken" w="90212" h="21600">
                <a:moveTo>
                  <a:pt x="90212" y="0"/>
                </a:moveTo>
                <a:lnTo>
                  <a:pt x="90212" y="21600"/>
                </a:lnTo>
                <a:lnTo>
                  <a:pt x="88812" y="20200"/>
                </a:lnTo>
                <a:lnTo>
                  <a:pt x="88812" y="1400"/>
                </a:lnTo>
                <a:close/>
              </a:path>
              <a:path fill="darkenLess" w="90212" h="21600">
                <a:moveTo>
                  <a:pt x="90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12" y="20200"/>
                </a:lnTo>
                <a:close/>
              </a:path>
              <a:path fill="lighten" w="90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vybė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31640" y="1133640"/>
            <a:ext cx="7380360" cy="4591800"/>
            <a:chOff x="431640" y="1133640"/>
            <a:chExt cx="7380360" cy="4591800"/>
          </a:xfrm>
        </p:grpSpPr>
        <p:grpSp>
          <p:nvGrpSpPr>
            <p:cNvPr id="160" name=""/>
            <p:cNvGrpSpPr/>
            <p:nvPr/>
          </p:nvGrpSpPr>
          <p:grpSpPr>
            <a:xfrm>
              <a:off x="431640" y="1133640"/>
              <a:ext cx="7380360" cy="4590720"/>
              <a:chOff x="431640" y="1133640"/>
              <a:chExt cx="7380360" cy="459072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3851280" y="1133640"/>
                <a:ext cx="0" cy="45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1640" y="3654360"/>
                <a:ext cx="738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76280" y="1224000"/>
              <a:ext cx="7308720" cy="4501440"/>
              <a:chOff x="476280" y="1224000"/>
              <a:chExt cx="7308720" cy="4501440"/>
            </a:xfrm>
          </p:grpSpPr>
          <mc:AlternateContent>
            <mc:Choice xmlns:a14="http://schemas.microsoft.com/office/drawing/2010/main" Requires="a14">
              <p:sp>
                <p:nvSpPr>
                  <p:cNvPr id="164" name=""/>
                  <p:cNvSpPr txBox="1"/>
                  <p:nvPr/>
                </p:nvSpPr>
                <p:spPr>
                  <a:xfrm>
                    <a:off x="3941640" y="1224000"/>
                    <a:ext cx="405000" cy="405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7451640" y="3789000"/>
                    <a:ext cx="333360" cy="33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6" name=""/>
                  <p:cNvSpPr txBox="1"/>
                  <p:nvPr/>
                </p:nvSpPr>
                <p:spPr>
                  <a:xfrm>
                    <a:off x="1871640" y="3563280"/>
                    <a:ext cx="573120" cy="81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7" name=""/>
                  <p:cNvSpPr txBox="1"/>
                  <p:nvPr/>
                </p:nvSpPr>
                <p:spPr>
                  <a:xfrm>
                    <a:off x="5202000" y="3607920"/>
                    <a:ext cx="295560" cy="76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8" name=""/>
                  <p:cNvSpPr txBox="1"/>
                  <p:nvPr/>
                </p:nvSpPr>
                <p:spPr>
                  <a:xfrm>
                    <a:off x="6732360" y="3744360"/>
                    <a:ext cx="24624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3897360" y="3698280"/>
                    <a:ext cx="28872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476280" y="3698280"/>
                    <a:ext cx="531720" cy="291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3941640" y="2437920"/>
                    <a:ext cx="274680" cy="39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2" name=""/>
                  <p:cNvSpPr txBox="1"/>
                  <p:nvPr/>
                </p:nvSpPr>
                <p:spPr>
                  <a:xfrm>
                    <a:off x="3851280" y="4507920"/>
                    <a:ext cx="512640" cy="39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3" name=""/>
                  <p:cNvSpPr txBox="1"/>
                  <p:nvPr/>
                </p:nvSpPr>
                <p:spPr>
                  <a:xfrm>
                    <a:off x="3267000" y="4914360"/>
                    <a:ext cx="573120" cy="81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3446280" y="1672920"/>
                    <a:ext cx="295560" cy="76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5" name=""/>
          <p:cNvSpPr/>
          <p:nvPr/>
        </p:nvSpPr>
        <p:spPr>
          <a:xfrm>
            <a:off x="431640" y="171936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46280" y="2168640"/>
            <a:ext cx="2279880" cy="3149640"/>
            <a:chOff x="2546280" y="2168640"/>
            <a:chExt cx="2279880" cy="3149640"/>
          </a:xfrm>
        </p:grpSpPr>
        <p:sp>
          <p:nvSpPr>
            <p:cNvPr id="177" name=""/>
            <p:cNvSpPr/>
            <p:nvPr/>
          </p:nvSpPr>
          <p:spPr>
            <a:xfrm>
              <a:off x="2725920" y="2168640"/>
              <a:ext cx="2100240" cy="3149640"/>
            </a:xfrm>
            <a:custGeom>
              <a:avLst/>
              <a:gdLst/>
              <a:ahLst/>
              <a:rect l="l" t="t" r="r" b="b"/>
              <a:pathLst>
                <a:path w="1323" h="1984">
                  <a:moveTo>
                    <a:pt x="0" y="1984"/>
                  </a:moveTo>
                  <a:cubicBezTo>
                    <a:pt x="16" y="1868"/>
                    <a:pt x="33" y="1752"/>
                    <a:pt x="142" y="1587"/>
                  </a:cubicBezTo>
                  <a:cubicBezTo>
                    <a:pt x="251" y="1422"/>
                    <a:pt x="473" y="1214"/>
                    <a:pt x="652" y="992"/>
                  </a:cubicBezTo>
                  <a:cubicBezTo>
                    <a:pt x="831" y="770"/>
                    <a:pt x="1115" y="420"/>
                    <a:pt x="1219" y="255"/>
                  </a:cubicBezTo>
                  <a:cubicBezTo>
                    <a:pt x="1323" y="90"/>
                    <a:pt x="1299" y="45"/>
                    <a:pt x="1276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2546280" y="2978280"/>
                  <a:ext cx="13957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9" name=""/>
          <p:cNvGrpSpPr/>
          <p:nvPr/>
        </p:nvGrpSpPr>
        <p:grpSpPr>
          <a:xfrm>
            <a:off x="2185920" y="2754360"/>
            <a:ext cx="3465360" cy="2070000"/>
            <a:chOff x="2185920" y="2754360"/>
            <a:chExt cx="3465360" cy="2070000"/>
          </a:xfrm>
        </p:grpSpPr>
        <p:sp>
          <p:nvSpPr>
            <p:cNvPr id="180" name=""/>
            <p:cNvSpPr/>
            <p:nvPr/>
          </p:nvSpPr>
          <p:spPr>
            <a:xfrm>
              <a:off x="2185920" y="2754360"/>
              <a:ext cx="3016080" cy="2070000"/>
            </a:xfrm>
            <a:custGeom>
              <a:avLst/>
              <a:gdLst/>
              <a:ahLst/>
              <a:rect l="l" t="t" r="r" b="b"/>
              <a:pathLst>
                <a:path w="1900" h="1304">
                  <a:moveTo>
                    <a:pt x="0" y="1304"/>
                  </a:moveTo>
                  <a:cubicBezTo>
                    <a:pt x="90" y="1301"/>
                    <a:pt x="180" y="1299"/>
                    <a:pt x="341" y="1190"/>
                  </a:cubicBezTo>
                  <a:cubicBezTo>
                    <a:pt x="502" y="1081"/>
                    <a:pt x="766" y="822"/>
                    <a:pt x="964" y="652"/>
                  </a:cubicBezTo>
                  <a:cubicBezTo>
                    <a:pt x="1162" y="482"/>
                    <a:pt x="1375" y="279"/>
                    <a:pt x="1531" y="170"/>
                  </a:cubicBezTo>
                  <a:cubicBezTo>
                    <a:pt x="1687" y="61"/>
                    <a:pt x="1793" y="30"/>
                    <a:pt x="19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4481280" y="3159000"/>
                  <a:ext cx="117000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8128080" y="617364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006640" y="1989000"/>
            <a:ext cx="3914640" cy="3555720"/>
            <a:chOff x="2006640" y="1989000"/>
            <a:chExt cx="3914640" cy="3555720"/>
          </a:xfrm>
        </p:grpSpPr>
        <p:sp>
          <p:nvSpPr>
            <p:cNvPr id="184" name=""/>
            <p:cNvSpPr/>
            <p:nvPr/>
          </p:nvSpPr>
          <p:spPr>
            <a:xfrm>
              <a:off x="2006640" y="1989000"/>
              <a:ext cx="3465720" cy="3555720"/>
            </a:xfrm>
            <a:custGeom>
              <a:avLst/>
              <a:gdLst/>
              <a:ahLst/>
              <a:rect l="l" t="t" r="r" b="b"/>
              <a:pathLst>
                <a:path w="1900" h="1956">
                  <a:moveTo>
                    <a:pt x="0" y="1956"/>
                  </a:moveTo>
                  <a:cubicBezTo>
                    <a:pt x="0" y="1956"/>
                    <a:pt x="950" y="978"/>
                    <a:pt x="190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46640" y="21240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=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85920" y="5904000"/>
            <a:ext cx="5356080" cy="954000"/>
          </a:xfrm>
          <a:custGeom>
            <a:avLst/>
            <a:gdLst>
              <a:gd name="textAreaLeft" fmla="*/ 61560 w 5356080"/>
              <a:gd name="textAreaRight" fmla="*/ 5294520 w 5356080"/>
              <a:gd name="textAreaTop" fmla="*/ 61560 h 954000"/>
              <a:gd name="textAreaBottom" fmla="*/ 892440 h 954000"/>
            </a:gdLst>
            <a:ahLst/>
            <a:rect l="textAreaLeft" t="textAreaTop" r="textAreaRight" b="textAreaBottom"/>
            <a:pathLst>
              <a:path w="121232" h="21600">
                <a:moveTo>
                  <a:pt x="0" y="0"/>
                </a:moveTo>
                <a:lnTo>
                  <a:pt x="121232" y="0"/>
                </a:lnTo>
                <a:lnTo>
                  <a:pt x="121232" y="21600"/>
                </a:lnTo>
                <a:lnTo>
                  <a:pt x="0" y="21600"/>
                </a:lnTo>
                <a:close/>
              </a:path>
              <a:path fill="lightenLess" w="121232" h="21600">
                <a:moveTo>
                  <a:pt x="0" y="0"/>
                </a:moveTo>
                <a:lnTo>
                  <a:pt x="121232" y="0"/>
                </a:lnTo>
                <a:lnTo>
                  <a:pt x="119832" y="1400"/>
                </a:lnTo>
                <a:lnTo>
                  <a:pt x="1400" y="1400"/>
                </a:lnTo>
                <a:close/>
              </a:path>
              <a:path fill="darken" w="121232" h="21600">
                <a:moveTo>
                  <a:pt x="121232" y="0"/>
                </a:moveTo>
                <a:lnTo>
                  <a:pt x="121232" y="21600"/>
                </a:lnTo>
                <a:lnTo>
                  <a:pt x="119832" y="20200"/>
                </a:lnTo>
                <a:lnTo>
                  <a:pt x="119832" y="1400"/>
                </a:lnTo>
                <a:close/>
              </a:path>
              <a:path fill="darkenLess" w="121232" h="21600">
                <a:moveTo>
                  <a:pt x="121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32" y="20200"/>
                </a:lnTo>
                <a:close/>
              </a:path>
              <a:path fill="lighten" w="121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(x)=arcsin x y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virkštinė f-jai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n x ir grafi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gaunamas f-jos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n x grafiką intervale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imetriškai atvaizdavus tiesės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x atžvilgiu.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648320" y="6172200"/>
                <a:ext cx="761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2-03-08T11:39:53Z</dcterms:modified>
  <cp:revision>1</cp:revision>
  <dc:subject/>
  <dc:title>TRIGONOMETRINĖS FUNKCIJOS</dc:title>
</cp:coreProperties>
</file>